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490D-C35B-4004-A98F-E5354CA4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A02F-BAD6-46B9-B085-0FD9B5AE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25BF-1721-44E2-AD8D-A0938999B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52D8-B147-4724-BD21-5E663D3CE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6368-047C-44FB-9CE6-42055B5B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0B20-9898-4EC1-B4F0-49CDFDE8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756D-F2C7-4550-88D7-4928EB72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9E7C-3E4F-497F-9B07-F9A8DC95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1A9A-DC5A-4705-8A7F-2353B92F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B732-BC93-4AB8-8167-BF764A65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BECE-7834-4B2D-ACAB-7F40CF72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0A7B-572A-4848-9749-D47730EA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F376-21CD-4B19-8DFA-E654A53FFF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" Target="slide32.xml"/><Relationship Id="rId32" Type="http://schemas.openxmlformats.org/officeDocument/2006/relationships/slide" Target="slide33.xml"/><Relationship Id="rId33" Type="http://schemas.openxmlformats.org/officeDocument/2006/relationships/slide" Target="slide34.xml"/><Relationship Id="rId34" Type="http://schemas.openxmlformats.org/officeDocument/2006/relationships/slide" Target="slide35.xml"/><Relationship Id="rId3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643040" y="142920"/>
            <a:ext cx="65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"/>
                <a:ea typeface="Times New Roman"/>
              </a:rPr>
              <a:t>Choose the 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642960" y="928800"/>
            <a:ext cx="80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mmar  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 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571680" y="1714680"/>
            <a:ext cx="814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cabulary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 action="ppaction://hlinksldjump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3" action="ppaction://hlinksldjump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4" action="ppaction://hlinksldjump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642960" y="2500200"/>
            <a:ext cx="80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lture      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5" action="ppaction://hlinksldjump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6" action="ppaction://hlinksldjump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7" action="ppaction://hlinksldjump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8" action="ppaction://hlinksldjump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9" action="ppaction://hlinksldjump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0" action="ppaction://hlinksldjump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1" action="ppaction://hlinksldjump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642960" y="3357720"/>
            <a:ext cx="80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ry       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2" action="ppaction://hlinksldjump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3" action="ppaction://hlinksldjump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4" action="ppaction://hlinksldjump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5" action="ppaction://hlinksldjump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6" action="ppaction://hlinksldjump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7" action="ppaction://hlinksldjump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8" action="ppaction://hlinksldjump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714240" y="4214880"/>
            <a:ext cx="807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       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9" action="ppaction://hlinksldjump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0" action="ppaction://hlinksldjump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1" action="ppaction://hlinksldjump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2" action="ppaction://hlinksldjump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3" action="ppaction://hlinksldjump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4" action="ppaction://hlinksldjump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59984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think you should give ___ smok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ulary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928800" y="257184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1428840" y="335772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2214720" y="400068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2786040" y="457200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Управляющая кнопка: домой 8">
            <a:hlinkClick r:id="" action="ppaction://hlinkshowjump?jump=firstslide"/>
          </p:cNvPr>
          <p:cNvSpPr/>
          <p:nvPr/>
        </p:nvSpPr>
        <p:spPr>
          <a:xfrm>
            <a:off x="3071880" y="5857920"/>
            <a:ext cx="2786040" cy="785880"/>
          </a:xfrm>
          <a:custGeom>
            <a:avLst/>
            <a:gdLst>
              <a:gd name="textAreaLeft" fmla="*/ 50760 w 2786040"/>
              <a:gd name="textAreaRight" fmla="*/ 2735280 w 278604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76549" h="21600">
                <a:moveTo>
                  <a:pt x="0" y="0"/>
                </a:moveTo>
                <a:lnTo>
                  <a:pt x="76549" y="0"/>
                </a:lnTo>
                <a:lnTo>
                  <a:pt x="76549" y="21600"/>
                </a:lnTo>
                <a:lnTo>
                  <a:pt x="0" y="21600"/>
                </a:lnTo>
                <a:close/>
              </a:path>
              <a:path fill="lightenLess" w="76549" h="21600">
                <a:moveTo>
                  <a:pt x="0" y="0"/>
                </a:moveTo>
                <a:lnTo>
                  <a:pt x="76549" y="0"/>
                </a:lnTo>
                <a:lnTo>
                  <a:pt x="75149" y="1400"/>
                </a:lnTo>
                <a:lnTo>
                  <a:pt x="1400" y="1400"/>
                </a:lnTo>
                <a:close/>
              </a:path>
              <a:path fill="darken" w="76549" h="21600">
                <a:moveTo>
                  <a:pt x="76549" y="0"/>
                </a:moveTo>
                <a:lnTo>
                  <a:pt x="76549" y="21600"/>
                </a:lnTo>
                <a:lnTo>
                  <a:pt x="75149" y="20200"/>
                </a:lnTo>
                <a:lnTo>
                  <a:pt x="75149" y="1400"/>
                </a:lnTo>
                <a:close/>
              </a:path>
              <a:path fill="darkenLess" w="76549" h="21600">
                <a:moveTo>
                  <a:pt x="76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49" y="20200"/>
                </a:lnTo>
                <a:close/>
              </a:path>
              <a:path fill="lighten" w="76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49" h="21600">
                <a:moveTo>
                  <a:pt x="38275" y="3837"/>
                </a:moveTo>
                <a:lnTo>
                  <a:pt x="40851" y="6448"/>
                </a:ln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lnTo>
                  <a:pt x="45238" y="10800"/>
                </a:lnTo>
                <a:lnTo>
                  <a:pt x="43584" y="10800"/>
                </a:lnTo>
                <a:lnTo>
                  <a:pt x="43584" y="17989"/>
                </a:lnTo>
                <a:lnTo>
                  <a:pt x="32965" y="17989"/>
                </a:lnTo>
                <a:lnTo>
                  <a:pt x="32965" y="10800"/>
                </a:lnTo>
                <a:lnTo>
                  <a:pt x="31312" y="10800"/>
                </a:lnTo>
                <a:close/>
              </a:path>
              <a:path fill="darkenLess" w="76549" h="21600">
                <a:moveTo>
                  <a:pt x="40851" y="6448"/>
                </a:move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close/>
              </a:path>
              <a:path fill="darkenLess" w="76549" h="21600">
                <a:moveTo>
                  <a:pt x="37352" y="14299"/>
                </a:moveTo>
                <a:lnTo>
                  <a:pt x="39197" y="14299"/>
                </a:lnTo>
                <a:lnTo>
                  <a:pt x="39197" y="17989"/>
                </a:lnTo>
                <a:lnTo>
                  <a:pt x="43584" y="17989"/>
                </a:lnTo>
                <a:lnTo>
                  <a:pt x="43584" y="10800"/>
                </a:lnTo>
                <a:lnTo>
                  <a:pt x="32965" y="10800"/>
                </a:lnTo>
                <a:lnTo>
                  <a:pt x="32965" y="17989"/>
                </a:lnTo>
                <a:lnTo>
                  <a:pt x="37352" y="17989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 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’m still hungry. Give me _______ sandwich, pl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Управляющая кнопка: домой 3">
            <a:hlinkClick r:id="" action="ppaction://hlinkshowjump?jump=firstslide"/>
          </p:cNvPr>
          <p:cNvSpPr/>
          <p:nvPr/>
        </p:nvSpPr>
        <p:spPr>
          <a:xfrm>
            <a:off x="3071880" y="5857920"/>
            <a:ext cx="2786040" cy="785880"/>
          </a:xfrm>
          <a:custGeom>
            <a:avLst/>
            <a:gdLst>
              <a:gd name="textAreaLeft" fmla="*/ 50760 w 2786040"/>
              <a:gd name="textAreaRight" fmla="*/ 2735280 w 278604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76549" h="21600">
                <a:moveTo>
                  <a:pt x="0" y="0"/>
                </a:moveTo>
                <a:lnTo>
                  <a:pt x="76549" y="0"/>
                </a:lnTo>
                <a:lnTo>
                  <a:pt x="76549" y="21600"/>
                </a:lnTo>
                <a:lnTo>
                  <a:pt x="0" y="21600"/>
                </a:lnTo>
                <a:close/>
              </a:path>
              <a:path fill="lightenLess" w="76549" h="21600">
                <a:moveTo>
                  <a:pt x="0" y="0"/>
                </a:moveTo>
                <a:lnTo>
                  <a:pt x="76549" y="0"/>
                </a:lnTo>
                <a:lnTo>
                  <a:pt x="75149" y="1400"/>
                </a:lnTo>
                <a:lnTo>
                  <a:pt x="1400" y="1400"/>
                </a:lnTo>
                <a:close/>
              </a:path>
              <a:path fill="darken" w="76549" h="21600">
                <a:moveTo>
                  <a:pt x="76549" y="0"/>
                </a:moveTo>
                <a:lnTo>
                  <a:pt x="76549" y="21600"/>
                </a:lnTo>
                <a:lnTo>
                  <a:pt x="75149" y="20200"/>
                </a:lnTo>
                <a:lnTo>
                  <a:pt x="75149" y="1400"/>
                </a:lnTo>
                <a:close/>
              </a:path>
              <a:path fill="darkenLess" w="76549" h="21600">
                <a:moveTo>
                  <a:pt x="76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49" y="20200"/>
                </a:lnTo>
                <a:close/>
              </a:path>
              <a:path fill="lighten" w="76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49" h="21600">
                <a:moveTo>
                  <a:pt x="38275" y="3837"/>
                </a:moveTo>
                <a:lnTo>
                  <a:pt x="40851" y="6448"/>
                </a:ln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lnTo>
                  <a:pt x="45238" y="10800"/>
                </a:lnTo>
                <a:lnTo>
                  <a:pt x="43584" y="10800"/>
                </a:lnTo>
                <a:lnTo>
                  <a:pt x="43584" y="17989"/>
                </a:lnTo>
                <a:lnTo>
                  <a:pt x="32965" y="17989"/>
                </a:lnTo>
                <a:lnTo>
                  <a:pt x="32965" y="10800"/>
                </a:lnTo>
                <a:lnTo>
                  <a:pt x="31312" y="10800"/>
                </a:lnTo>
                <a:close/>
              </a:path>
              <a:path fill="darkenLess" w="76549" h="21600">
                <a:moveTo>
                  <a:pt x="40851" y="6448"/>
                </a:move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close/>
              </a:path>
              <a:path fill="darkenLess" w="76549" h="21600">
                <a:moveTo>
                  <a:pt x="37352" y="14299"/>
                </a:moveTo>
                <a:lnTo>
                  <a:pt x="39197" y="14299"/>
                </a:lnTo>
                <a:lnTo>
                  <a:pt x="39197" y="17989"/>
                </a:lnTo>
                <a:lnTo>
                  <a:pt x="43584" y="17989"/>
                </a:lnTo>
                <a:lnTo>
                  <a:pt x="43584" y="10800"/>
                </a:lnTo>
                <a:lnTo>
                  <a:pt x="32965" y="10800"/>
                </a:lnTo>
                <a:lnTo>
                  <a:pt x="32965" y="17989"/>
                </a:lnTo>
                <a:lnTo>
                  <a:pt x="37352" y="17989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 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ulary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928800" y="257184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1714680" y="307188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2500200" y="3643200"/>
            <a:ext cx="49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3071880" y="414324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59984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sh the proverb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 a day keeps the doctor away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Управляющая кнопка: домой 3">
            <a:hlinkClick r:id="" action="ppaction://hlinkshowjump?jump=firstslide"/>
          </p:cNvPr>
          <p:cNvSpPr/>
          <p:nvPr/>
        </p:nvSpPr>
        <p:spPr>
          <a:xfrm>
            <a:off x="3071880" y="5857920"/>
            <a:ext cx="2786040" cy="785880"/>
          </a:xfrm>
          <a:custGeom>
            <a:avLst/>
            <a:gdLst>
              <a:gd name="textAreaLeft" fmla="*/ 50760 w 2786040"/>
              <a:gd name="textAreaRight" fmla="*/ 2735280 w 278604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76549" h="21600">
                <a:moveTo>
                  <a:pt x="0" y="0"/>
                </a:moveTo>
                <a:lnTo>
                  <a:pt x="76549" y="0"/>
                </a:lnTo>
                <a:lnTo>
                  <a:pt x="76549" y="21600"/>
                </a:lnTo>
                <a:lnTo>
                  <a:pt x="0" y="21600"/>
                </a:lnTo>
                <a:close/>
              </a:path>
              <a:path fill="lightenLess" w="76549" h="21600">
                <a:moveTo>
                  <a:pt x="0" y="0"/>
                </a:moveTo>
                <a:lnTo>
                  <a:pt x="76549" y="0"/>
                </a:lnTo>
                <a:lnTo>
                  <a:pt x="75149" y="1400"/>
                </a:lnTo>
                <a:lnTo>
                  <a:pt x="1400" y="1400"/>
                </a:lnTo>
                <a:close/>
              </a:path>
              <a:path fill="darken" w="76549" h="21600">
                <a:moveTo>
                  <a:pt x="76549" y="0"/>
                </a:moveTo>
                <a:lnTo>
                  <a:pt x="76549" y="21600"/>
                </a:lnTo>
                <a:lnTo>
                  <a:pt x="75149" y="20200"/>
                </a:lnTo>
                <a:lnTo>
                  <a:pt x="75149" y="1400"/>
                </a:lnTo>
                <a:close/>
              </a:path>
              <a:path fill="darkenLess" w="76549" h="21600">
                <a:moveTo>
                  <a:pt x="76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49" y="20200"/>
                </a:lnTo>
                <a:close/>
              </a:path>
              <a:path fill="lighten" w="76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49" h="21600">
                <a:moveTo>
                  <a:pt x="38275" y="3837"/>
                </a:moveTo>
                <a:lnTo>
                  <a:pt x="40851" y="6448"/>
                </a:ln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lnTo>
                  <a:pt x="45238" y="10800"/>
                </a:lnTo>
                <a:lnTo>
                  <a:pt x="43584" y="10800"/>
                </a:lnTo>
                <a:lnTo>
                  <a:pt x="43584" y="17989"/>
                </a:lnTo>
                <a:lnTo>
                  <a:pt x="32965" y="17989"/>
                </a:lnTo>
                <a:lnTo>
                  <a:pt x="32965" y="10800"/>
                </a:lnTo>
                <a:lnTo>
                  <a:pt x="31312" y="10800"/>
                </a:lnTo>
                <a:close/>
              </a:path>
              <a:path fill="darkenLess" w="76549" h="21600">
                <a:moveTo>
                  <a:pt x="40851" y="6448"/>
                </a:move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close/>
              </a:path>
              <a:path fill="darkenLess" w="76549" h="21600">
                <a:moveTo>
                  <a:pt x="37352" y="14299"/>
                </a:moveTo>
                <a:lnTo>
                  <a:pt x="39197" y="14299"/>
                </a:lnTo>
                <a:lnTo>
                  <a:pt x="39197" y="17989"/>
                </a:lnTo>
                <a:lnTo>
                  <a:pt x="43584" y="17989"/>
                </a:lnTo>
                <a:lnTo>
                  <a:pt x="43584" y="10800"/>
                </a:lnTo>
                <a:lnTo>
                  <a:pt x="32965" y="10800"/>
                </a:lnTo>
                <a:lnTo>
                  <a:pt x="32965" y="17989"/>
                </a:lnTo>
                <a:lnTo>
                  <a:pt x="37352" y="17989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 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ulary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1000080" y="300024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an ap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1571760" y="350028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a carr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2143080" y="407196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a cuc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2928960" y="457200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an o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16002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gave me her address an I gave her ______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Управляющая кнопка: домой 3">
            <a:hlinkClick r:id="" action="ppaction://hlinkshowjump?jump=firstslide"/>
          </p:cNvPr>
          <p:cNvSpPr/>
          <p:nvPr/>
        </p:nvSpPr>
        <p:spPr>
          <a:xfrm>
            <a:off x="3071880" y="5857920"/>
            <a:ext cx="2786040" cy="785880"/>
          </a:xfrm>
          <a:custGeom>
            <a:avLst/>
            <a:gdLst>
              <a:gd name="textAreaLeft" fmla="*/ 50760 w 2786040"/>
              <a:gd name="textAreaRight" fmla="*/ 2735280 w 278604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76549" h="21600">
                <a:moveTo>
                  <a:pt x="0" y="0"/>
                </a:moveTo>
                <a:lnTo>
                  <a:pt x="76549" y="0"/>
                </a:lnTo>
                <a:lnTo>
                  <a:pt x="76549" y="21600"/>
                </a:lnTo>
                <a:lnTo>
                  <a:pt x="0" y="21600"/>
                </a:lnTo>
                <a:close/>
              </a:path>
              <a:path fill="lightenLess" w="76549" h="21600">
                <a:moveTo>
                  <a:pt x="0" y="0"/>
                </a:moveTo>
                <a:lnTo>
                  <a:pt x="76549" y="0"/>
                </a:lnTo>
                <a:lnTo>
                  <a:pt x="75149" y="1400"/>
                </a:lnTo>
                <a:lnTo>
                  <a:pt x="1400" y="1400"/>
                </a:lnTo>
                <a:close/>
              </a:path>
              <a:path fill="darken" w="76549" h="21600">
                <a:moveTo>
                  <a:pt x="76549" y="0"/>
                </a:moveTo>
                <a:lnTo>
                  <a:pt x="76549" y="21600"/>
                </a:lnTo>
                <a:lnTo>
                  <a:pt x="75149" y="20200"/>
                </a:lnTo>
                <a:lnTo>
                  <a:pt x="75149" y="1400"/>
                </a:lnTo>
                <a:close/>
              </a:path>
              <a:path fill="darkenLess" w="76549" h="21600">
                <a:moveTo>
                  <a:pt x="76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49" y="20200"/>
                </a:lnTo>
                <a:close/>
              </a:path>
              <a:path fill="lighten" w="76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49" h="21600">
                <a:moveTo>
                  <a:pt x="38275" y="3837"/>
                </a:moveTo>
                <a:lnTo>
                  <a:pt x="40851" y="6448"/>
                </a:ln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lnTo>
                  <a:pt x="45238" y="10800"/>
                </a:lnTo>
                <a:lnTo>
                  <a:pt x="43584" y="10800"/>
                </a:lnTo>
                <a:lnTo>
                  <a:pt x="43584" y="17989"/>
                </a:lnTo>
                <a:lnTo>
                  <a:pt x="32965" y="17989"/>
                </a:lnTo>
                <a:lnTo>
                  <a:pt x="32965" y="10800"/>
                </a:lnTo>
                <a:lnTo>
                  <a:pt x="31312" y="10800"/>
                </a:lnTo>
                <a:close/>
              </a:path>
              <a:path fill="darkenLess" w="76549" h="21600">
                <a:moveTo>
                  <a:pt x="40851" y="6448"/>
                </a:move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close/>
              </a:path>
              <a:path fill="darkenLess" w="76549" h="21600">
                <a:moveTo>
                  <a:pt x="37352" y="14299"/>
                </a:moveTo>
                <a:lnTo>
                  <a:pt x="39197" y="14299"/>
                </a:lnTo>
                <a:lnTo>
                  <a:pt x="39197" y="17989"/>
                </a:lnTo>
                <a:lnTo>
                  <a:pt x="43584" y="17989"/>
                </a:lnTo>
                <a:lnTo>
                  <a:pt x="43584" y="10800"/>
                </a:lnTo>
                <a:lnTo>
                  <a:pt x="32965" y="10800"/>
                </a:lnTo>
                <a:lnTo>
                  <a:pt x="32965" y="17989"/>
                </a:lnTo>
                <a:lnTo>
                  <a:pt x="37352" y="17989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 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ulary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1428840" y="257184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1571760" y="321480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2143080" y="385776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2857680" y="435780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160020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y friend Alex has a talent ______ mus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Управляющая кнопка: домой 3">
            <a:hlinkClick r:id="" action="ppaction://hlinkshowjump?jump=firstslide"/>
          </p:cNvPr>
          <p:cNvSpPr/>
          <p:nvPr/>
        </p:nvSpPr>
        <p:spPr>
          <a:xfrm>
            <a:off x="3071880" y="5857920"/>
            <a:ext cx="2786040" cy="785880"/>
          </a:xfrm>
          <a:custGeom>
            <a:avLst/>
            <a:gdLst>
              <a:gd name="textAreaLeft" fmla="*/ 50760 w 2786040"/>
              <a:gd name="textAreaRight" fmla="*/ 2735280 w 278604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76549" h="21600">
                <a:moveTo>
                  <a:pt x="0" y="0"/>
                </a:moveTo>
                <a:lnTo>
                  <a:pt x="76549" y="0"/>
                </a:lnTo>
                <a:lnTo>
                  <a:pt x="76549" y="21600"/>
                </a:lnTo>
                <a:lnTo>
                  <a:pt x="0" y="21600"/>
                </a:lnTo>
                <a:close/>
              </a:path>
              <a:path fill="lightenLess" w="76549" h="21600">
                <a:moveTo>
                  <a:pt x="0" y="0"/>
                </a:moveTo>
                <a:lnTo>
                  <a:pt x="76549" y="0"/>
                </a:lnTo>
                <a:lnTo>
                  <a:pt x="75149" y="1400"/>
                </a:lnTo>
                <a:lnTo>
                  <a:pt x="1400" y="1400"/>
                </a:lnTo>
                <a:close/>
              </a:path>
              <a:path fill="darken" w="76549" h="21600">
                <a:moveTo>
                  <a:pt x="76549" y="0"/>
                </a:moveTo>
                <a:lnTo>
                  <a:pt x="76549" y="21600"/>
                </a:lnTo>
                <a:lnTo>
                  <a:pt x="75149" y="20200"/>
                </a:lnTo>
                <a:lnTo>
                  <a:pt x="75149" y="1400"/>
                </a:lnTo>
                <a:close/>
              </a:path>
              <a:path fill="darkenLess" w="76549" h="21600">
                <a:moveTo>
                  <a:pt x="76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49" y="20200"/>
                </a:lnTo>
                <a:close/>
              </a:path>
              <a:path fill="lighten" w="76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49" h="21600">
                <a:moveTo>
                  <a:pt x="38275" y="3837"/>
                </a:moveTo>
                <a:lnTo>
                  <a:pt x="40851" y="6448"/>
                </a:ln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lnTo>
                  <a:pt x="45238" y="10800"/>
                </a:lnTo>
                <a:lnTo>
                  <a:pt x="43584" y="10800"/>
                </a:lnTo>
                <a:lnTo>
                  <a:pt x="43584" y="17989"/>
                </a:lnTo>
                <a:lnTo>
                  <a:pt x="32965" y="17989"/>
                </a:lnTo>
                <a:lnTo>
                  <a:pt x="32965" y="10800"/>
                </a:lnTo>
                <a:lnTo>
                  <a:pt x="31312" y="10800"/>
                </a:lnTo>
                <a:close/>
              </a:path>
              <a:path fill="darkenLess" w="76549" h="21600">
                <a:moveTo>
                  <a:pt x="40851" y="6448"/>
                </a:move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close/>
              </a:path>
              <a:path fill="darkenLess" w="76549" h="21600">
                <a:moveTo>
                  <a:pt x="37352" y="14299"/>
                </a:moveTo>
                <a:lnTo>
                  <a:pt x="39197" y="14299"/>
                </a:lnTo>
                <a:lnTo>
                  <a:pt x="39197" y="17989"/>
                </a:lnTo>
                <a:lnTo>
                  <a:pt x="43584" y="17989"/>
                </a:lnTo>
                <a:lnTo>
                  <a:pt x="43584" y="10800"/>
                </a:lnTo>
                <a:lnTo>
                  <a:pt x="32965" y="10800"/>
                </a:lnTo>
                <a:lnTo>
                  <a:pt x="32965" y="17989"/>
                </a:lnTo>
                <a:lnTo>
                  <a:pt x="37352" y="17989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 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ulary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1428840" y="257184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1928880" y="321480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2571840" y="385776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3143160" y="450072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159984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x is crazy  _______ footba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ulary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2071800" y="314316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1500120" y="250020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2571840" y="385776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3214800" y="457200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Управляющая кнопка: домой 8">
            <a:hlinkClick r:id="" action="ppaction://hlinkshowjump?jump=firstslide"/>
          </p:cNvPr>
          <p:cNvSpPr/>
          <p:nvPr/>
        </p:nvSpPr>
        <p:spPr>
          <a:xfrm>
            <a:off x="3071880" y="5857920"/>
            <a:ext cx="2786040" cy="785880"/>
          </a:xfrm>
          <a:custGeom>
            <a:avLst/>
            <a:gdLst>
              <a:gd name="textAreaLeft" fmla="*/ 50760 w 2786040"/>
              <a:gd name="textAreaRight" fmla="*/ 2735280 w 278604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76549" h="21600">
                <a:moveTo>
                  <a:pt x="0" y="0"/>
                </a:moveTo>
                <a:lnTo>
                  <a:pt x="76549" y="0"/>
                </a:lnTo>
                <a:lnTo>
                  <a:pt x="76549" y="21600"/>
                </a:lnTo>
                <a:lnTo>
                  <a:pt x="0" y="21600"/>
                </a:lnTo>
                <a:close/>
              </a:path>
              <a:path fill="lightenLess" w="76549" h="21600">
                <a:moveTo>
                  <a:pt x="0" y="0"/>
                </a:moveTo>
                <a:lnTo>
                  <a:pt x="76549" y="0"/>
                </a:lnTo>
                <a:lnTo>
                  <a:pt x="75149" y="1400"/>
                </a:lnTo>
                <a:lnTo>
                  <a:pt x="1400" y="1400"/>
                </a:lnTo>
                <a:close/>
              </a:path>
              <a:path fill="darken" w="76549" h="21600">
                <a:moveTo>
                  <a:pt x="76549" y="0"/>
                </a:moveTo>
                <a:lnTo>
                  <a:pt x="76549" y="21600"/>
                </a:lnTo>
                <a:lnTo>
                  <a:pt x="75149" y="20200"/>
                </a:lnTo>
                <a:lnTo>
                  <a:pt x="75149" y="1400"/>
                </a:lnTo>
                <a:close/>
              </a:path>
              <a:path fill="darkenLess" w="76549" h="21600">
                <a:moveTo>
                  <a:pt x="76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49" y="20200"/>
                </a:lnTo>
                <a:close/>
              </a:path>
              <a:path fill="lighten" w="76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49" h="21600">
                <a:moveTo>
                  <a:pt x="38275" y="3837"/>
                </a:moveTo>
                <a:lnTo>
                  <a:pt x="40851" y="6448"/>
                </a:ln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lnTo>
                  <a:pt x="45238" y="10800"/>
                </a:lnTo>
                <a:lnTo>
                  <a:pt x="43584" y="10800"/>
                </a:lnTo>
                <a:lnTo>
                  <a:pt x="43584" y="17989"/>
                </a:lnTo>
                <a:lnTo>
                  <a:pt x="32965" y="17989"/>
                </a:lnTo>
                <a:lnTo>
                  <a:pt x="32965" y="10800"/>
                </a:lnTo>
                <a:lnTo>
                  <a:pt x="31312" y="10800"/>
                </a:lnTo>
                <a:close/>
              </a:path>
              <a:path fill="darkenLess" w="76549" h="21600">
                <a:moveTo>
                  <a:pt x="40851" y="6448"/>
                </a:move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close/>
              </a:path>
              <a:path fill="darkenLess" w="76549" h="21600">
                <a:moveTo>
                  <a:pt x="37352" y="14299"/>
                </a:moveTo>
                <a:lnTo>
                  <a:pt x="39197" y="14299"/>
                </a:lnTo>
                <a:lnTo>
                  <a:pt x="39197" y="17989"/>
                </a:lnTo>
                <a:lnTo>
                  <a:pt x="43584" y="17989"/>
                </a:lnTo>
                <a:lnTo>
                  <a:pt x="43584" y="10800"/>
                </a:lnTo>
                <a:lnTo>
                  <a:pt x="32965" y="10800"/>
                </a:lnTo>
                <a:lnTo>
                  <a:pt x="32965" y="17989"/>
                </a:lnTo>
                <a:lnTo>
                  <a:pt x="37352" y="17989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 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ltur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church was built in London after The Great Fire. It’s architect was sir Christopher W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Управляющая кнопка: домой 3">
            <a:hlinkClick r:id="" action="ppaction://hlinkshowjump?jump=firstslide"/>
          </p:cNvPr>
          <p:cNvSpPr/>
          <p:nvPr/>
        </p:nvSpPr>
        <p:spPr>
          <a:xfrm>
            <a:off x="3071880" y="5857920"/>
            <a:ext cx="2786040" cy="785880"/>
          </a:xfrm>
          <a:custGeom>
            <a:avLst/>
            <a:gdLst>
              <a:gd name="textAreaLeft" fmla="*/ 50760 w 2786040"/>
              <a:gd name="textAreaRight" fmla="*/ 2735280 w 278604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76549" h="21600">
                <a:moveTo>
                  <a:pt x="0" y="0"/>
                </a:moveTo>
                <a:lnTo>
                  <a:pt x="76549" y="0"/>
                </a:lnTo>
                <a:lnTo>
                  <a:pt x="76549" y="21600"/>
                </a:lnTo>
                <a:lnTo>
                  <a:pt x="0" y="21600"/>
                </a:lnTo>
                <a:close/>
              </a:path>
              <a:path fill="lightenLess" w="76549" h="21600">
                <a:moveTo>
                  <a:pt x="0" y="0"/>
                </a:moveTo>
                <a:lnTo>
                  <a:pt x="76549" y="0"/>
                </a:lnTo>
                <a:lnTo>
                  <a:pt x="75149" y="1400"/>
                </a:lnTo>
                <a:lnTo>
                  <a:pt x="1400" y="1400"/>
                </a:lnTo>
                <a:close/>
              </a:path>
              <a:path fill="darken" w="76549" h="21600">
                <a:moveTo>
                  <a:pt x="76549" y="0"/>
                </a:moveTo>
                <a:lnTo>
                  <a:pt x="76549" y="21600"/>
                </a:lnTo>
                <a:lnTo>
                  <a:pt x="75149" y="20200"/>
                </a:lnTo>
                <a:lnTo>
                  <a:pt x="75149" y="1400"/>
                </a:lnTo>
                <a:close/>
              </a:path>
              <a:path fill="darkenLess" w="76549" h="21600">
                <a:moveTo>
                  <a:pt x="76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49" y="20200"/>
                </a:lnTo>
                <a:close/>
              </a:path>
              <a:path fill="lighten" w="76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49" h="21600">
                <a:moveTo>
                  <a:pt x="38275" y="3837"/>
                </a:moveTo>
                <a:lnTo>
                  <a:pt x="40851" y="6448"/>
                </a:ln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lnTo>
                  <a:pt x="45238" y="10800"/>
                </a:lnTo>
                <a:lnTo>
                  <a:pt x="43584" y="10800"/>
                </a:lnTo>
                <a:lnTo>
                  <a:pt x="43584" y="17989"/>
                </a:lnTo>
                <a:lnTo>
                  <a:pt x="32965" y="17989"/>
                </a:lnTo>
                <a:lnTo>
                  <a:pt x="32965" y="10800"/>
                </a:lnTo>
                <a:lnTo>
                  <a:pt x="31312" y="10800"/>
                </a:lnTo>
                <a:close/>
              </a:path>
              <a:path fill="darkenLess" w="76549" h="21600">
                <a:moveTo>
                  <a:pt x="40851" y="6448"/>
                </a:move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close/>
              </a:path>
              <a:path fill="darkenLess" w="76549" h="21600">
                <a:moveTo>
                  <a:pt x="37352" y="14299"/>
                </a:moveTo>
                <a:lnTo>
                  <a:pt x="39197" y="14299"/>
                </a:lnTo>
                <a:lnTo>
                  <a:pt x="39197" y="17989"/>
                </a:lnTo>
                <a:lnTo>
                  <a:pt x="43584" y="17989"/>
                </a:lnTo>
                <a:lnTo>
                  <a:pt x="43584" y="10800"/>
                </a:lnTo>
                <a:lnTo>
                  <a:pt x="32965" y="10800"/>
                </a:lnTo>
                <a:lnTo>
                  <a:pt x="32965" y="17989"/>
                </a:lnTo>
                <a:lnTo>
                  <a:pt x="37352" y="17989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 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1500120" y="285768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Westminster Abb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5"/>
          <p:cNvSpPr/>
          <p:nvPr/>
        </p:nvSpPr>
        <p:spPr>
          <a:xfrm>
            <a:off x="2143080" y="364320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Saint Paul’s Cathed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2928960" y="421488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Saint Peter’s Cathed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>
            <a:off x="3929040" y="478620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Saint George Cathed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8" descr="собор.jpeg"/>
          <p:cNvPicPr/>
          <p:nvPr/>
        </p:nvPicPr>
        <p:blipFill>
          <a:blip r:embed="rId1"/>
          <a:stretch/>
        </p:blipFill>
        <p:spPr>
          <a:xfrm>
            <a:off x="7072200" y="2714760"/>
            <a:ext cx="185760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159984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Trafalgar Square we can see the monument to ____________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Управляющая кнопка: домой 3">
            <a:hlinkClick r:id="" action="ppaction://hlinkshowjump?jump=firstslide"/>
          </p:cNvPr>
          <p:cNvSpPr/>
          <p:nvPr/>
        </p:nvSpPr>
        <p:spPr>
          <a:xfrm>
            <a:off x="3071880" y="5857920"/>
            <a:ext cx="2786040" cy="785880"/>
          </a:xfrm>
          <a:custGeom>
            <a:avLst/>
            <a:gdLst>
              <a:gd name="textAreaLeft" fmla="*/ 50760 w 2786040"/>
              <a:gd name="textAreaRight" fmla="*/ 2735280 w 278604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76549" h="21600">
                <a:moveTo>
                  <a:pt x="0" y="0"/>
                </a:moveTo>
                <a:lnTo>
                  <a:pt x="76549" y="0"/>
                </a:lnTo>
                <a:lnTo>
                  <a:pt x="76549" y="21600"/>
                </a:lnTo>
                <a:lnTo>
                  <a:pt x="0" y="21600"/>
                </a:lnTo>
                <a:close/>
              </a:path>
              <a:path fill="lightenLess" w="76549" h="21600">
                <a:moveTo>
                  <a:pt x="0" y="0"/>
                </a:moveTo>
                <a:lnTo>
                  <a:pt x="76549" y="0"/>
                </a:lnTo>
                <a:lnTo>
                  <a:pt x="75149" y="1400"/>
                </a:lnTo>
                <a:lnTo>
                  <a:pt x="1400" y="1400"/>
                </a:lnTo>
                <a:close/>
              </a:path>
              <a:path fill="darken" w="76549" h="21600">
                <a:moveTo>
                  <a:pt x="76549" y="0"/>
                </a:moveTo>
                <a:lnTo>
                  <a:pt x="76549" y="21600"/>
                </a:lnTo>
                <a:lnTo>
                  <a:pt x="75149" y="20200"/>
                </a:lnTo>
                <a:lnTo>
                  <a:pt x="75149" y="1400"/>
                </a:lnTo>
                <a:close/>
              </a:path>
              <a:path fill="darkenLess" w="76549" h="21600">
                <a:moveTo>
                  <a:pt x="76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49" y="20200"/>
                </a:lnTo>
                <a:close/>
              </a:path>
              <a:path fill="lighten" w="76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49" h="21600">
                <a:moveTo>
                  <a:pt x="38275" y="3837"/>
                </a:moveTo>
                <a:lnTo>
                  <a:pt x="40851" y="6448"/>
                </a:ln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lnTo>
                  <a:pt x="45238" y="10800"/>
                </a:lnTo>
                <a:lnTo>
                  <a:pt x="43584" y="10800"/>
                </a:lnTo>
                <a:lnTo>
                  <a:pt x="43584" y="17989"/>
                </a:lnTo>
                <a:lnTo>
                  <a:pt x="32965" y="17989"/>
                </a:lnTo>
                <a:lnTo>
                  <a:pt x="32965" y="10800"/>
                </a:lnTo>
                <a:lnTo>
                  <a:pt x="31312" y="10800"/>
                </a:lnTo>
                <a:close/>
              </a:path>
              <a:path fill="darkenLess" w="76549" h="21600">
                <a:moveTo>
                  <a:pt x="40851" y="6448"/>
                </a:move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close/>
              </a:path>
              <a:path fill="darkenLess" w="76549" h="21600">
                <a:moveTo>
                  <a:pt x="37352" y="14299"/>
                </a:moveTo>
                <a:lnTo>
                  <a:pt x="39197" y="14299"/>
                </a:lnTo>
                <a:lnTo>
                  <a:pt x="39197" y="17989"/>
                </a:lnTo>
                <a:lnTo>
                  <a:pt x="43584" y="17989"/>
                </a:lnTo>
                <a:lnTo>
                  <a:pt x="43584" y="10800"/>
                </a:lnTo>
                <a:lnTo>
                  <a:pt x="32965" y="10800"/>
                </a:lnTo>
                <a:lnTo>
                  <a:pt x="32965" y="17989"/>
                </a:lnTo>
                <a:lnTo>
                  <a:pt x="37352" y="17989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 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ltur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5"/>
          <p:cNvSpPr/>
          <p:nvPr/>
        </p:nvSpPr>
        <p:spPr>
          <a:xfrm>
            <a:off x="1500120" y="292896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admiral Nel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6"/>
          <p:cNvSpPr/>
          <p:nvPr/>
        </p:nvSpPr>
        <p:spPr>
          <a:xfrm>
            <a:off x="2143080" y="350028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captain C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7"/>
          <p:cNvSpPr/>
          <p:nvPr/>
        </p:nvSpPr>
        <p:spPr>
          <a:xfrm>
            <a:off x="2786040" y="407196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captain Sco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3500280" y="4714920"/>
            <a:ext cx="49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prince Alb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9" descr="трафальгарская.jpeg"/>
          <p:cNvPicPr/>
          <p:nvPr/>
        </p:nvPicPr>
        <p:blipFill>
          <a:blip r:embed="rId1"/>
          <a:stretch/>
        </p:blipFill>
        <p:spPr>
          <a:xfrm>
            <a:off x="6786720" y="285840"/>
            <a:ext cx="19285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16002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en to the melody. Who had sung this song for the first tim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Управляющая кнопка: домой 3">
            <a:hlinkClick r:id="" action="ppaction://hlinkshowjump?jump=firstslide"/>
          </p:cNvPr>
          <p:cNvSpPr/>
          <p:nvPr/>
        </p:nvSpPr>
        <p:spPr>
          <a:xfrm>
            <a:off x="3071880" y="5857920"/>
            <a:ext cx="2786040" cy="785880"/>
          </a:xfrm>
          <a:custGeom>
            <a:avLst/>
            <a:gdLst>
              <a:gd name="textAreaLeft" fmla="*/ 50760 w 2786040"/>
              <a:gd name="textAreaRight" fmla="*/ 2735280 w 278604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76549" h="21600">
                <a:moveTo>
                  <a:pt x="0" y="0"/>
                </a:moveTo>
                <a:lnTo>
                  <a:pt x="76549" y="0"/>
                </a:lnTo>
                <a:lnTo>
                  <a:pt x="76549" y="21600"/>
                </a:lnTo>
                <a:lnTo>
                  <a:pt x="0" y="21600"/>
                </a:lnTo>
                <a:close/>
              </a:path>
              <a:path fill="lightenLess" w="76549" h="21600">
                <a:moveTo>
                  <a:pt x="0" y="0"/>
                </a:moveTo>
                <a:lnTo>
                  <a:pt x="76549" y="0"/>
                </a:lnTo>
                <a:lnTo>
                  <a:pt x="75149" y="1400"/>
                </a:lnTo>
                <a:lnTo>
                  <a:pt x="1400" y="1400"/>
                </a:lnTo>
                <a:close/>
              </a:path>
              <a:path fill="darken" w="76549" h="21600">
                <a:moveTo>
                  <a:pt x="76549" y="0"/>
                </a:moveTo>
                <a:lnTo>
                  <a:pt x="76549" y="21600"/>
                </a:lnTo>
                <a:lnTo>
                  <a:pt x="75149" y="20200"/>
                </a:lnTo>
                <a:lnTo>
                  <a:pt x="75149" y="1400"/>
                </a:lnTo>
                <a:close/>
              </a:path>
              <a:path fill="darkenLess" w="76549" h="21600">
                <a:moveTo>
                  <a:pt x="76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49" y="20200"/>
                </a:lnTo>
                <a:close/>
              </a:path>
              <a:path fill="lighten" w="76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49" h="21600">
                <a:moveTo>
                  <a:pt x="38275" y="3837"/>
                </a:moveTo>
                <a:lnTo>
                  <a:pt x="40851" y="6448"/>
                </a:ln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lnTo>
                  <a:pt x="45238" y="10800"/>
                </a:lnTo>
                <a:lnTo>
                  <a:pt x="43584" y="10800"/>
                </a:lnTo>
                <a:lnTo>
                  <a:pt x="43584" y="17989"/>
                </a:lnTo>
                <a:lnTo>
                  <a:pt x="32965" y="17989"/>
                </a:lnTo>
                <a:lnTo>
                  <a:pt x="32965" y="10800"/>
                </a:lnTo>
                <a:lnTo>
                  <a:pt x="31312" y="10800"/>
                </a:lnTo>
                <a:close/>
              </a:path>
              <a:path fill="darkenLess" w="76549" h="21600">
                <a:moveTo>
                  <a:pt x="40851" y="6448"/>
                </a:move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close/>
              </a:path>
              <a:path fill="darkenLess" w="76549" h="21600">
                <a:moveTo>
                  <a:pt x="37352" y="14299"/>
                </a:moveTo>
                <a:lnTo>
                  <a:pt x="39197" y="14299"/>
                </a:lnTo>
                <a:lnTo>
                  <a:pt x="39197" y="17989"/>
                </a:lnTo>
                <a:lnTo>
                  <a:pt x="43584" y="17989"/>
                </a:lnTo>
                <a:lnTo>
                  <a:pt x="43584" y="10800"/>
                </a:lnTo>
                <a:lnTo>
                  <a:pt x="32965" y="10800"/>
                </a:lnTo>
                <a:lnTo>
                  <a:pt x="32965" y="17989"/>
                </a:lnTo>
                <a:lnTo>
                  <a:pt x="37352" y="17989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 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lture 3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2000160" y="292896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“The Quee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2571840" y="357192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“Modern Talk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3357720" y="414324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“The Beatl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>
            <a:off x="3929040" y="471492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Frank Sinat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yesterday.mp3" descr=""/>
          <p:cNvPicPr/>
          <p:nvPr/>
        </p:nvPicPr>
        <p:blipFill>
          <a:blip r:embed="rId1"/>
          <a:stretch/>
        </p:blipFill>
        <p:spPr>
          <a:xfrm>
            <a:off x="7286760" y="2714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599840"/>
            <a:ext cx="822960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 portrait of __________ , a great writer , the author of “Ivanhoe”, “Rob Roy” and a lot of other famous nov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Управляющая кнопка: домой 3">
            <a:hlinkClick r:id="" action="ppaction://hlinkshowjump?jump=firstslide"/>
          </p:cNvPr>
          <p:cNvSpPr/>
          <p:nvPr/>
        </p:nvSpPr>
        <p:spPr>
          <a:xfrm>
            <a:off x="3071880" y="5857920"/>
            <a:ext cx="2786040" cy="785880"/>
          </a:xfrm>
          <a:custGeom>
            <a:avLst/>
            <a:gdLst>
              <a:gd name="textAreaLeft" fmla="*/ 50760 w 2786040"/>
              <a:gd name="textAreaRight" fmla="*/ 2735280 w 278604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76549" h="21600">
                <a:moveTo>
                  <a:pt x="0" y="0"/>
                </a:moveTo>
                <a:lnTo>
                  <a:pt x="76549" y="0"/>
                </a:lnTo>
                <a:lnTo>
                  <a:pt x="76549" y="21600"/>
                </a:lnTo>
                <a:lnTo>
                  <a:pt x="0" y="21600"/>
                </a:lnTo>
                <a:close/>
              </a:path>
              <a:path fill="lightenLess" w="76549" h="21600">
                <a:moveTo>
                  <a:pt x="0" y="0"/>
                </a:moveTo>
                <a:lnTo>
                  <a:pt x="76549" y="0"/>
                </a:lnTo>
                <a:lnTo>
                  <a:pt x="75149" y="1400"/>
                </a:lnTo>
                <a:lnTo>
                  <a:pt x="1400" y="1400"/>
                </a:lnTo>
                <a:close/>
              </a:path>
              <a:path fill="darken" w="76549" h="21600">
                <a:moveTo>
                  <a:pt x="76549" y="0"/>
                </a:moveTo>
                <a:lnTo>
                  <a:pt x="76549" y="21600"/>
                </a:lnTo>
                <a:lnTo>
                  <a:pt x="75149" y="20200"/>
                </a:lnTo>
                <a:lnTo>
                  <a:pt x="75149" y="1400"/>
                </a:lnTo>
                <a:close/>
              </a:path>
              <a:path fill="darkenLess" w="76549" h="21600">
                <a:moveTo>
                  <a:pt x="76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49" y="20200"/>
                </a:lnTo>
                <a:close/>
              </a:path>
              <a:path fill="lighten" w="76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49" h="21600">
                <a:moveTo>
                  <a:pt x="38275" y="3837"/>
                </a:moveTo>
                <a:lnTo>
                  <a:pt x="40851" y="6448"/>
                </a:ln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lnTo>
                  <a:pt x="45238" y="10800"/>
                </a:lnTo>
                <a:lnTo>
                  <a:pt x="43584" y="10800"/>
                </a:lnTo>
                <a:lnTo>
                  <a:pt x="43584" y="17989"/>
                </a:lnTo>
                <a:lnTo>
                  <a:pt x="32965" y="17989"/>
                </a:lnTo>
                <a:lnTo>
                  <a:pt x="32965" y="10800"/>
                </a:lnTo>
                <a:lnTo>
                  <a:pt x="31312" y="10800"/>
                </a:lnTo>
                <a:close/>
              </a:path>
              <a:path fill="darkenLess" w="76549" h="21600">
                <a:moveTo>
                  <a:pt x="40851" y="6448"/>
                </a:move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close/>
              </a:path>
              <a:path fill="darkenLess" w="76549" h="21600">
                <a:moveTo>
                  <a:pt x="37352" y="14299"/>
                </a:moveTo>
                <a:lnTo>
                  <a:pt x="39197" y="14299"/>
                </a:lnTo>
                <a:lnTo>
                  <a:pt x="39197" y="17989"/>
                </a:lnTo>
                <a:lnTo>
                  <a:pt x="43584" y="17989"/>
                </a:lnTo>
                <a:lnTo>
                  <a:pt x="43584" y="10800"/>
                </a:lnTo>
                <a:lnTo>
                  <a:pt x="32965" y="10800"/>
                </a:lnTo>
                <a:lnTo>
                  <a:pt x="32965" y="17989"/>
                </a:lnTo>
                <a:lnTo>
                  <a:pt x="37352" y="17989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 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lture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2357280" y="3214800"/>
            <a:ext cx="49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Sir Walter Scot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2571840" y="378612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Charles Dick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6"/>
          <p:cNvSpPr/>
          <p:nvPr/>
        </p:nvSpPr>
        <p:spPr>
          <a:xfrm>
            <a:off x="3071880" y="428616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George By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3714840" y="478620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Sir Arthur Conan Do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9" descr="Вальтер Скотт.jpeg"/>
          <p:cNvPicPr/>
          <p:nvPr/>
        </p:nvPicPr>
        <p:blipFill>
          <a:blip r:embed="rId1"/>
          <a:stretch/>
        </p:blipFill>
        <p:spPr>
          <a:xfrm>
            <a:off x="6786720" y="2857680"/>
            <a:ext cx="142848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mmar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friend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m is the ________ pupil in our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071720" y="2714760"/>
            <a:ext cx="47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1428840" y="33577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1928880" y="400068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b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2428920" y="464328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more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Управляющая кнопка: домой 8">
            <a:hlinkClick r:id="" action="ppaction://hlinkshowjump?jump=firstslide"/>
          </p:cNvPr>
          <p:cNvSpPr/>
          <p:nvPr/>
        </p:nvSpPr>
        <p:spPr>
          <a:xfrm>
            <a:off x="3071880" y="5857920"/>
            <a:ext cx="2786040" cy="785880"/>
          </a:xfrm>
          <a:custGeom>
            <a:avLst/>
            <a:gdLst>
              <a:gd name="textAreaLeft" fmla="*/ 50760 w 2786040"/>
              <a:gd name="textAreaRight" fmla="*/ 2735280 w 278604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76549" h="21600">
                <a:moveTo>
                  <a:pt x="0" y="0"/>
                </a:moveTo>
                <a:lnTo>
                  <a:pt x="76549" y="0"/>
                </a:lnTo>
                <a:lnTo>
                  <a:pt x="76549" y="21600"/>
                </a:lnTo>
                <a:lnTo>
                  <a:pt x="0" y="21600"/>
                </a:lnTo>
                <a:close/>
              </a:path>
              <a:path fill="lightenLess" w="76549" h="21600">
                <a:moveTo>
                  <a:pt x="0" y="0"/>
                </a:moveTo>
                <a:lnTo>
                  <a:pt x="76549" y="0"/>
                </a:lnTo>
                <a:lnTo>
                  <a:pt x="75149" y="1400"/>
                </a:lnTo>
                <a:lnTo>
                  <a:pt x="1400" y="1400"/>
                </a:lnTo>
                <a:close/>
              </a:path>
              <a:path fill="darken" w="76549" h="21600">
                <a:moveTo>
                  <a:pt x="76549" y="0"/>
                </a:moveTo>
                <a:lnTo>
                  <a:pt x="76549" y="21600"/>
                </a:lnTo>
                <a:lnTo>
                  <a:pt x="75149" y="20200"/>
                </a:lnTo>
                <a:lnTo>
                  <a:pt x="75149" y="1400"/>
                </a:lnTo>
                <a:close/>
              </a:path>
              <a:path fill="darkenLess" w="76549" h="21600">
                <a:moveTo>
                  <a:pt x="76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49" y="20200"/>
                </a:lnTo>
                <a:close/>
              </a:path>
              <a:path fill="lighten" w="76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49" h="21600">
                <a:moveTo>
                  <a:pt x="38275" y="3837"/>
                </a:moveTo>
                <a:lnTo>
                  <a:pt x="40851" y="6448"/>
                </a:ln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lnTo>
                  <a:pt x="45238" y="10800"/>
                </a:lnTo>
                <a:lnTo>
                  <a:pt x="43584" y="10800"/>
                </a:lnTo>
                <a:lnTo>
                  <a:pt x="43584" y="17989"/>
                </a:lnTo>
                <a:lnTo>
                  <a:pt x="32965" y="17989"/>
                </a:lnTo>
                <a:lnTo>
                  <a:pt x="32965" y="10800"/>
                </a:lnTo>
                <a:lnTo>
                  <a:pt x="31312" y="10800"/>
                </a:lnTo>
                <a:close/>
              </a:path>
              <a:path fill="darkenLess" w="76549" h="21600">
                <a:moveTo>
                  <a:pt x="40851" y="6448"/>
                </a:move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close/>
              </a:path>
              <a:path fill="darkenLess" w="76549" h="21600">
                <a:moveTo>
                  <a:pt x="37352" y="14299"/>
                </a:moveTo>
                <a:lnTo>
                  <a:pt x="39197" y="14299"/>
                </a:lnTo>
                <a:lnTo>
                  <a:pt x="39197" y="17989"/>
                </a:lnTo>
                <a:lnTo>
                  <a:pt x="43584" y="17989"/>
                </a:lnTo>
                <a:lnTo>
                  <a:pt x="43584" y="10800"/>
                </a:lnTo>
                <a:lnTo>
                  <a:pt x="32965" y="10800"/>
                </a:lnTo>
                <a:lnTo>
                  <a:pt x="32965" y="17989"/>
                </a:lnTo>
                <a:lnTo>
                  <a:pt x="37352" y="17989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 начало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Управляющая кнопка: домой 3">
            <a:hlinkClick r:id="" action="ppaction://hlinkshowjump?jump=firstslide"/>
          </p:cNvPr>
          <p:cNvSpPr/>
          <p:nvPr/>
        </p:nvSpPr>
        <p:spPr>
          <a:xfrm>
            <a:off x="3071880" y="5857920"/>
            <a:ext cx="2786040" cy="785880"/>
          </a:xfrm>
          <a:custGeom>
            <a:avLst/>
            <a:gdLst>
              <a:gd name="textAreaLeft" fmla="*/ 50760 w 2786040"/>
              <a:gd name="textAreaRight" fmla="*/ 2735280 w 278604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76549" h="21600">
                <a:moveTo>
                  <a:pt x="0" y="0"/>
                </a:moveTo>
                <a:lnTo>
                  <a:pt x="76549" y="0"/>
                </a:lnTo>
                <a:lnTo>
                  <a:pt x="76549" y="21600"/>
                </a:lnTo>
                <a:lnTo>
                  <a:pt x="0" y="21600"/>
                </a:lnTo>
                <a:close/>
              </a:path>
              <a:path fill="lightenLess" w="76549" h="21600">
                <a:moveTo>
                  <a:pt x="0" y="0"/>
                </a:moveTo>
                <a:lnTo>
                  <a:pt x="76549" y="0"/>
                </a:lnTo>
                <a:lnTo>
                  <a:pt x="75149" y="1400"/>
                </a:lnTo>
                <a:lnTo>
                  <a:pt x="1400" y="1400"/>
                </a:lnTo>
                <a:close/>
              </a:path>
              <a:path fill="darken" w="76549" h="21600">
                <a:moveTo>
                  <a:pt x="76549" y="0"/>
                </a:moveTo>
                <a:lnTo>
                  <a:pt x="76549" y="21600"/>
                </a:lnTo>
                <a:lnTo>
                  <a:pt x="75149" y="20200"/>
                </a:lnTo>
                <a:lnTo>
                  <a:pt x="75149" y="1400"/>
                </a:lnTo>
                <a:close/>
              </a:path>
              <a:path fill="darkenLess" w="76549" h="21600">
                <a:moveTo>
                  <a:pt x="76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49" y="20200"/>
                </a:lnTo>
                <a:close/>
              </a:path>
              <a:path fill="lighten" w="76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49" h="21600">
                <a:moveTo>
                  <a:pt x="38275" y="3837"/>
                </a:moveTo>
                <a:lnTo>
                  <a:pt x="40851" y="6448"/>
                </a:ln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lnTo>
                  <a:pt x="45238" y="10800"/>
                </a:lnTo>
                <a:lnTo>
                  <a:pt x="43584" y="10800"/>
                </a:lnTo>
                <a:lnTo>
                  <a:pt x="43584" y="17989"/>
                </a:lnTo>
                <a:lnTo>
                  <a:pt x="32965" y="17989"/>
                </a:lnTo>
                <a:lnTo>
                  <a:pt x="32965" y="10800"/>
                </a:lnTo>
                <a:lnTo>
                  <a:pt x="31312" y="10800"/>
                </a:lnTo>
                <a:close/>
              </a:path>
              <a:path fill="darkenLess" w="76549" h="21600">
                <a:moveTo>
                  <a:pt x="40851" y="6448"/>
                </a:move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close/>
              </a:path>
              <a:path fill="darkenLess" w="76549" h="21600">
                <a:moveTo>
                  <a:pt x="37352" y="14299"/>
                </a:moveTo>
                <a:lnTo>
                  <a:pt x="39197" y="14299"/>
                </a:lnTo>
                <a:lnTo>
                  <a:pt x="39197" y="17989"/>
                </a:lnTo>
                <a:lnTo>
                  <a:pt x="43584" y="17989"/>
                </a:lnTo>
                <a:lnTo>
                  <a:pt x="43584" y="10800"/>
                </a:lnTo>
                <a:lnTo>
                  <a:pt x="32965" y="10800"/>
                </a:lnTo>
                <a:lnTo>
                  <a:pt x="32965" y="17989"/>
                </a:lnTo>
                <a:lnTo>
                  <a:pt x="37352" y="17989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 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lture 5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en to the melody. Who had sung this song for the first tim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2214720" y="278604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“Modern Talk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6"/>
          <p:cNvSpPr/>
          <p:nvPr/>
        </p:nvSpPr>
        <p:spPr>
          <a:xfrm>
            <a:off x="2643120" y="342900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“The Quee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6"/>
          <p:cNvSpPr/>
          <p:nvPr/>
        </p:nvSpPr>
        <p:spPr>
          <a:xfrm>
            <a:off x="3071880" y="400068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“Led Zeppeli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3500280" y="4500720"/>
            <a:ext cx="49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“The Beatl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we are the champions.mp3" descr=""/>
          <p:cNvPicPr/>
          <p:nvPr/>
        </p:nvPicPr>
        <p:blipFill>
          <a:blip r:embed="rId1"/>
          <a:stretch/>
        </p:blipFill>
        <p:spPr>
          <a:xfrm>
            <a:off x="7715160" y="2786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6002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famous London double-deckers are 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Управляющая кнопка: домой 3">
            <a:hlinkClick r:id="" action="ppaction://hlinkshowjump?jump=firstslide"/>
          </p:cNvPr>
          <p:cNvSpPr/>
          <p:nvPr/>
        </p:nvSpPr>
        <p:spPr>
          <a:xfrm>
            <a:off x="3071880" y="5857920"/>
            <a:ext cx="2786040" cy="785880"/>
          </a:xfrm>
          <a:custGeom>
            <a:avLst/>
            <a:gdLst>
              <a:gd name="textAreaLeft" fmla="*/ 50760 w 2786040"/>
              <a:gd name="textAreaRight" fmla="*/ 2735280 w 278604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76549" h="21600">
                <a:moveTo>
                  <a:pt x="0" y="0"/>
                </a:moveTo>
                <a:lnTo>
                  <a:pt x="76549" y="0"/>
                </a:lnTo>
                <a:lnTo>
                  <a:pt x="76549" y="21600"/>
                </a:lnTo>
                <a:lnTo>
                  <a:pt x="0" y="21600"/>
                </a:lnTo>
                <a:close/>
              </a:path>
              <a:path fill="lightenLess" w="76549" h="21600">
                <a:moveTo>
                  <a:pt x="0" y="0"/>
                </a:moveTo>
                <a:lnTo>
                  <a:pt x="76549" y="0"/>
                </a:lnTo>
                <a:lnTo>
                  <a:pt x="75149" y="1400"/>
                </a:lnTo>
                <a:lnTo>
                  <a:pt x="1400" y="1400"/>
                </a:lnTo>
                <a:close/>
              </a:path>
              <a:path fill="darken" w="76549" h="21600">
                <a:moveTo>
                  <a:pt x="76549" y="0"/>
                </a:moveTo>
                <a:lnTo>
                  <a:pt x="76549" y="21600"/>
                </a:lnTo>
                <a:lnTo>
                  <a:pt x="75149" y="20200"/>
                </a:lnTo>
                <a:lnTo>
                  <a:pt x="75149" y="1400"/>
                </a:lnTo>
                <a:close/>
              </a:path>
              <a:path fill="darkenLess" w="76549" h="21600">
                <a:moveTo>
                  <a:pt x="76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49" y="20200"/>
                </a:lnTo>
                <a:close/>
              </a:path>
              <a:path fill="lighten" w="76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49" h="21600">
                <a:moveTo>
                  <a:pt x="38275" y="3837"/>
                </a:moveTo>
                <a:lnTo>
                  <a:pt x="40851" y="6448"/>
                </a:ln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lnTo>
                  <a:pt x="45238" y="10800"/>
                </a:lnTo>
                <a:lnTo>
                  <a:pt x="43584" y="10800"/>
                </a:lnTo>
                <a:lnTo>
                  <a:pt x="43584" y="17989"/>
                </a:lnTo>
                <a:lnTo>
                  <a:pt x="32965" y="17989"/>
                </a:lnTo>
                <a:lnTo>
                  <a:pt x="32965" y="10800"/>
                </a:lnTo>
                <a:lnTo>
                  <a:pt x="31312" y="10800"/>
                </a:lnTo>
                <a:close/>
              </a:path>
              <a:path fill="darkenLess" w="76549" h="21600">
                <a:moveTo>
                  <a:pt x="40851" y="6448"/>
                </a:move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close/>
              </a:path>
              <a:path fill="darkenLess" w="76549" h="21600">
                <a:moveTo>
                  <a:pt x="37352" y="14299"/>
                </a:moveTo>
                <a:lnTo>
                  <a:pt x="39197" y="14299"/>
                </a:lnTo>
                <a:lnTo>
                  <a:pt x="39197" y="17989"/>
                </a:lnTo>
                <a:lnTo>
                  <a:pt x="43584" y="17989"/>
                </a:lnTo>
                <a:lnTo>
                  <a:pt x="43584" y="10800"/>
                </a:lnTo>
                <a:lnTo>
                  <a:pt x="32965" y="10800"/>
                </a:lnTo>
                <a:lnTo>
                  <a:pt x="32965" y="17989"/>
                </a:lnTo>
                <a:lnTo>
                  <a:pt x="37352" y="17989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 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lture 6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2214720" y="278604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6"/>
          <p:cNvSpPr/>
          <p:nvPr/>
        </p:nvSpPr>
        <p:spPr>
          <a:xfrm>
            <a:off x="2428920" y="342900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7"/>
          <p:cNvSpPr/>
          <p:nvPr/>
        </p:nvSpPr>
        <p:spPr>
          <a:xfrm>
            <a:off x="2857680" y="392904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8"/>
          <p:cNvSpPr/>
          <p:nvPr/>
        </p:nvSpPr>
        <p:spPr>
          <a:xfrm>
            <a:off x="3214800" y="435780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исунок 9" descr="даблдекер.jpeg"/>
          <p:cNvPicPr/>
          <p:nvPr/>
        </p:nvPicPr>
        <p:blipFill>
          <a:blip r:embed="rId1"/>
          <a:stretch/>
        </p:blipFill>
        <p:spPr>
          <a:xfrm>
            <a:off x="5929200" y="2571840"/>
            <a:ext cx="19908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0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160020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aditionally in Scotland on the 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day of a New Year the first guest should be 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Управляющая кнопка: домой 3">
            <a:hlinkClick r:id="" action="ppaction://hlinkshowjump?jump=firstslide"/>
          </p:cNvPr>
          <p:cNvSpPr/>
          <p:nvPr/>
        </p:nvSpPr>
        <p:spPr>
          <a:xfrm>
            <a:off x="3071880" y="5857920"/>
            <a:ext cx="2786040" cy="785880"/>
          </a:xfrm>
          <a:custGeom>
            <a:avLst/>
            <a:gdLst>
              <a:gd name="textAreaLeft" fmla="*/ 50760 w 2786040"/>
              <a:gd name="textAreaRight" fmla="*/ 2735280 w 278604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76549" h="21600">
                <a:moveTo>
                  <a:pt x="0" y="0"/>
                </a:moveTo>
                <a:lnTo>
                  <a:pt x="76549" y="0"/>
                </a:lnTo>
                <a:lnTo>
                  <a:pt x="76549" y="21600"/>
                </a:lnTo>
                <a:lnTo>
                  <a:pt x="0" y="21600"/>
                </a:lnTo>
                <a:close/>
              </a:path>
              <a:path fill="lightenLess" w="76549" h="21600">
                <a:moveTo>
                  <a:pt x="0" y="0"/>
                </a:moveTo>
                <a:lnTo>
                  <a:pt x="76549" y="0"/>
                </a:lnTo>
                <a:lnTo>
                  <a:pt x="75149" y="1400"/>
                </a:lnTo>
                <a:lnTo>
                  <a:pt x="1400" y="1400"/>
                </a:lnTo>
                <a:close/>
              </a:path>
              <a:path fill="darken" w="76549" h="21600">
                <a:moveTo>
                  <a:pt x="76549" y="0"/>
                </a:moveTo>
                <a:lnTo>
                  <a:pt x="76549" y="21600"/>
                </a:lnTo>
                <a:lnTo>
                  <a:pt x="75149" y="20200"/>
                </a:lnTo>
                <a:lnTo>
                  <a:pt x="75149" y="1400"/>
                </a:lnTo>
                <a:close/>
              </a:path>
              <a:path fill="darkenLess" w="76549" h="21600">
                <a:moveTo>
                  <a:pt x="76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49" y="20200"/>
                </a:lnTo>
                <a:close/>
              </a:path>
              <a:path fill="lighten" w="76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49" h="21600">
                <a:moveTo>
                  <a:pt x="38275" y="3837"/>
                </a:moveTo>
                <a:lnTo>
                  <a:pt x="40851" y="6448"/>
                </a:ln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lnTo>
                  <a:pt x="45238" y="10800"/>
                </a:lnTo>
                <a:lnTo>
                  <a:pt x="43584" y="10800"/>
                </a:lnTo>
                <a:lnTo>
                  <a:pt x="43584" y="17989"/>
                </a:lnTo>
                <a:lnTo>
                  <a:pt x="32965" y="17989"/>
                </a:lnTo>
                <a:lnTo>
                  <a:pt x="32965" y="10800"/>
                </a:lnTo>
                <a:lnTo>
                  <a:pt x="31312" y="10800"/>
                </a:lnTo>
                <a:close/>
              </a:path>
              <a:path fill="darkenLess" w="76549" h="21600">
                <a:moveTo>
                  <a:pt x="40851" y="6448"/>
                </a:move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close/>
              </a:path>
              <a:path fill="darkenLess" w="76549" h="21600">
                <a:moveTo>
                  <a:pt x="37352" y="14299"/>
                </a:moveTo>
                <a:lnTo>
                  <a:pt x="39197" y="14299"/>
                </a:lnTo>
                <a:lnTo>
                  <a:pt x="39197" y="17989"/>
                </a:lnTo>
                <a:lnTo>
                  <a:pt x="43584" y="17989"/>
                </a:lnTo>
                <a:lnTo>
                  <a:pt x="43584" y="10800"/>
                </a:lnTo>
                <a:lnTo>
                  <a:pt x="32965" y="10800"/>
                </a:lnTo>
                <a:lnTo>
                  <a:pt x="32965" y="17989"/>
                </a:lnTo>
                <a:lnTo>
                  <a:pt x="37352" y="17989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 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lture 7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2214720" y="278604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fair-haired 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6"/>
          <p:cNvSpPr/>
          <p:nvPr/>
        </p:nvSpPr>
        <p:spPr>
          <a:xfrm>
            <a:off x="2428920" y="342900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fair-haired fe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7"/>
          <p:cNvSpPr/>
          <p:nvPr/>
        </p:nvSpPr>
        <p:spPr>
          <a:xfrm>
            <a:off x="2928960" y="400068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dark-haired 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8"/>
          <p:cNvSpPr/>
          <p:nvPr/>
        </p:nvSpPr>
        <p:spPr>
          <a:xfrm>
            <a:off x="3286080" y="464328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dark-haired fe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attle at Hastings  was in _______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3"/>
          <p:cNvSpPr/>
          <p:nvPr/>
        </p:nvSpPr>
        <p:spPr>
          <a:xfrm>
            <a:off x="2214720" y="278604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12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4"/>
          <p:cNvSpPr/>
          <p:nvPr/>
        </p:nvSpPr>
        <p:spPr>
          <a:xfrm>
            <a:off x="2571840" y="335772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13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2786040" y="400068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10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3143160" y="457200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10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Управляющая кнопка: домой 7">
            <a:hlinkClick r:id="" action="ppaction://hlinkshowjump?jump=firstslide"/>
          </p:cNvPr>
          <p:cNvSpPr/>
          <p:nvPr/>
        </p:nvSpPr>
        <p:spPr>
          <a:xfrm>
            <a:off x="3071880" y="5857920"/>
            <a:ext cx="2786040" cy="785880"/>
          </a:xfrm>
          <a:custGeom>
            <a:avLst/>
            <a:gdLst>
              <a:gd name="textAreaLeft" fmla="*/ 50760 w 2786040"/>
              <a:gd name="textAreaRight" fmla="*/ 2735280 w 278604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76549" h="21600">
                <a:moveTo>
                  <a:pt x="0" y="0"/>
                </a:moveTo>
                <a:lnTo>
                  <a:pt x="76549" y="0"/>
                </a:lnTo>
                <a:lnTo>
                  <a:pt x="76549" y="21600"/>
                </a:lnTo>
                <a:lnTo>
                  <a:pt x="0" y="21600"/>
                </a:lnTo>
                <a:close/>
              </a:path>
              <a:path fill="lightenLess" w="76549" h="21600">
                <a:moveTo>
                  <a:pt x="0" y="0"/>
                </a:moveTo>
                <a:lnTo>
                  <a:pt x="76549" y="0"/>
                </a:lnTo>
                <a:lnTo>
                  <a:pt x="75149" y="1400"/>
                </a:lnTo>
                <a:lnTo>
                  <a:pt x="1400" y="1400"/>
                </a:lnTo>
                <a:close/>
              </a:path>
              <a:path fill="darken" w="76549" h="21600">
                <a:moveTo>
                  <a:pt x="76549" y="0"/>
                </a:moveTo>
                <a:lnTo>
                  <a:pt x="76549" y="21600"/>
                </a:lnTo>
                <a:lnTo>
                  <a:pt x="75149" y="20200"/>
                </a:lnTo>
                <a:lnTo>
                  <a:pt x="75149" y="1400"/>
                </a:lnTo>
                <a:close/>
              </a:path>
              <a:path fill="darkenLess" w="76549" h="21600">
                <a:moveTo>
                  <a:pt x="76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49" y="20200"/>
                </a:lnTo>
                <a:close/>
              </a:path>
              <a:path fill="lighten" w="76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49" h="21600">
                <a:moveTo>
                  <a:pt x="38275" y="3837"/>
                </a:moveTo>
                <a:lnTo>
                  <a:pt x="40851" y="6448"/>
                </a:ln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lnTo>
                  <a:pt x="45238" y="10800"/>
                </a:lnTo>
                <a:lnTo>
                  <a:pt x="43584" y="10800"/>
                </a:lnTo>
                <a:lnTo>
                  <a:pt x="43584" y="17989"/>
                </a:lnTo>
                <a:lnTo>
                  <a:pt x="32965" y="17989"/>
                </a:lnTo>
                <a:lnTo>
                  <a:pt x="32965" y="10800"/>
                </a:lnTo>
                <a:lnTo>
                  <a:pt x="31312" y="10800"/>
                </a:lnTo>
                <a:close/>
              </a:path>
              <a:path fill="darkenLess" w="76549" h="21600">
                <a:moveTo>
                  <a:pt x="40851" y="6448"/>
                </a:move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close/>
              </a:path>
              <a:path fill="darkenLess" w="76549" h="21600">
                <a:moveTo>
                  <a:pt x="37352" y="14299"/>
                </a:moveTo>
                <a:lnTo>
                  <a:pt x="39197" y="14299"/>
                </a:lnTo>
                <a:lnTo>
                  <a:pt x="39197" y="17989"/>
                </a:lnTo>
                <a:lnTo>
                  <a:pt x="43584" y="17989"/>
                </a:lnTo>
                <a:lnTo>
                  <a:pt x="43584" y="10800"/>
                </a:lnTo>
                <a:lnTo>
                  <a:pt x="32965" y="10800"/>
                </a:lnTo>
                <a:lnTo>
                  <a:pt x="32965" y="17989"/>
                </a:lnTo>
                <a:lnTo>
                  <a:pt x="37352" y="17989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 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60020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s English king, who reigned in the 16 century, had 6 wi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2214720" y="278604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Henry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2571840" y="342900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Henry VII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6"/>
          <p:cNvSpPr/>
          <p:nvPr/>
        </p:nvSpPr>
        <p:spPr>
          <a:xfrm>
            <a:off x="2928960" y="407196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Richard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3357720" y="464328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Richard Lion He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Рисунок 8" descr="Генрих восьмой.jpeg"/>
          <p:cNvPicPr/>
          <p:nvPr/>
        </p:nvPicPr>
        <p:blipFill>
          <a:blip r:embed="rId1"/>
          <a:stretch/>
        </p:blipFill>
        <p:spPr>
          <a:xfrm>
            <a:off x="6357960" y="2500200"/>
            <a:ext cx="1428840" cy="2068560"/>
          </a:xfrm>
          <a:prstGeom prst="rect">
            <a:avLst/>
          </a:prstGeom>
          <a:ln w="0">
            <a:noFill/>
          </a:ln>
        </p:spPr>
      </p:pic>
      <p:sp>
        <p:nvSpPr>
          <p:cNvPr id="214" name="Управляющая кнопка: домой 9">
            <a:hlinkClick r:id="" action="ppaction://hlinkshowjump?jump=firstslide"/>
          </p:cNvPr>
          <p:cNvSpPr/>
          <p:nvPr/>
        </p:nvSpPr>
        <p:spPr>
          <a:xfrm>
            <a:off x="3071880" y="5857920"/>
            <a:ext cx="2786040" cy="785880"/>
          </a:xfrm>
          <a:custGeom>
            <a:avLst/>
            <a:gdLst>
              <a:gd name="textAreaLeft" fmla="*/ 50760 w 2786040"/>
              <a:gd name="textAreaRight" fmla="*/ 2735280 w 278604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76549" h="21600">
                <a:moveTo>
                  <a:pt x="0" y="0"/>
                </a:moveTo>
                <a:lnTo>
                  <a:pt x="76549" y="0"/>
                </a:lnTo>
                <a:lnTo>
                  <a:pt x="76549" y="21600"/>
                </a:lnTo>
                <a:lnTo>
                  <a:pt x="0" y="21600"/>
                </a:lnTo>
                <a:close/>
              </a:path>
              <a:path fill="lightenLess" w="76549" h="21600">
                <a:moveTo>
                  <a:pt x="0" y="0"/>
                </a:moveTo>
                <a:lnTo>
                  <a:pt x="76549" y="0"/>
                </a:lnTo>
                <a:lnTo>
                  <a:pt x="75149" y="1400"/>
                </a:lnTo>
                <a:lnTo>
                  <a:pt x="1400" y="1400"/>
                </a:lnTo>
                <a:close/>
              </a:path>
              <a:path fill="darken" w="76549" h="21600">
                <a:moveTo>
                  <a:pt x="76549" y="0"/>
                </a:moveTo>
                <a:lnTo>
                  <a:pt x="76549" y="21600"/>
                </a:lnTo>
                <a:lnTo>
                  <a:pt x="75149" y="20200"/>
                </a:lnTo>
                <a:lnTo>
                  <a:pt x="75149" y="1400"/>
                </a:lnTo>
                <a:close/>
              </a:path>
              <a:path fill="darkenLess" w="76549" h="21600">
                <a:moveTo>
                  <a:pt x="76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49" y="20200"/>
                </a:lnTo>
                <a:close/>
              </a:path>
              <a:path fill="lighten" w="76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49" h="21600">
                <a:moveTo>
                  <a:pt x="38275" y="3837"/>
                </a:moveTo>
                <a:lnTo>
                  <a:pt x="40851" y="6448"/>
                </a:ln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lnTo>
                  <a:pt x="45238" y="10800"/>
                </a:lnTo>
                <a:lnTo>
                  <a:pt x="43584" y="10800"/>
                </a:lnTo>
                <a:lnTo>
                  <a:pt x="43584" y="17989"/>
                </a:lnTo>
                <a:lnTo>
                  <a:pt x="32965" y="17989"/>
                </a:lnTo>
                <a:lnTo>
                  <a:pt x="32965" y="10800"/>
                </a:lnTo>
                <a:lnTo>
                  <a:pt x="31312" y="10800"/>
                </a:lnTo>
                <a:close/>
              </a:path>
              <a:path fill="darkenLess" w="76549" h="21600">
                <a:moveTo>
                  <a:pt x="40851" y="6448"/>
                </a:move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close/>
              </a:path>
              <a:path fill="darkenLess" w="76549" h="21600">
                <a:moveTo>
                  <a:pt x="37352" y="14299"/>
                </a:moveTo>
                <a:lnTo>
                  <a:pt x="39197" y="14299"/>
                </a:lnTo>
                <a:lnTo>
                  <a:pt x="39197" y="17989"/>
                </a:lnTo>
                <a:lnTo>
                  <a:pt x="43584" y="17989"/>
                </a:lnTo>
                <a:lnTo>
                  <a:pt x="43584" y="10800"/>
                </a:lnTo>
                <a:lnTo>
                  <a:pt x="32965" y="10800"/>
                </a:lnTo>
                <a:lnTo>
                  <a:pt x="32965" y="17989"/>
                </a:lnTo>
                <a:lnTo>
                  <a:pt x="37352" y="17989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 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16002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glish and British kings and queens have been crowned there since 11 centu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Управляющая кнопка: домой 3">
            <a:hlinkClick r:id="" action="ppaction://hlinkshowjump?jump=firstslide"/>
          </p:cNvPr>
          <p:cNvSpPr/>
          <p:nvPr/>
        </p:nvSpPr>
        <p:spPr>
          <a:xfrm>
            <a:off x="3071880" y="5857920"/>
            <a:ext cx="2786040" cy="785880"/>
          </a:xfrm>
          <a:custGeom>
            <a:avLst/>
            <a:gdLst>
              <a:gd name="textAreaLeft" fmla="*/ 50760 w 2786040"/>
              <a:gd name="textAreaRight" fmla="*/ 2735280 w 278604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76549" h="21600">
                <a:moveTo>
                  <a:pt x="0" y="0"/>
                </a:moveTo>
                <a:lnTo>
                  <a:pt x="76549" y="0"/>
                </a:lnTo>
                <a:lnTo>
                  <a:pt x="76549" y="21600"/>
                </a:lnTo>
                <a:lnTo>
                  <a:pt x="0" y="21600"/>
                </a:lnTo>
                <a:close/>
              </a:path>
              <a:path fill="lightenLess" w="76549" h="21600">
                <a:moveTo>
                  <a:pt x="0" y="0"/>
                </a:moveTo>
                <a:lnTo>
                  <a:pt x="76549" y="0"/>
                </a:lnTo>
                <a:lnTo>
                  <a:pt x="75149" y="1400"/>
                </a:lnTo>
                <a:lnTo>
                  <a:pt x="1400" y="1400"/>
                </a:lnTo>
                <a:close/>
              </a:path>
              <a:path fill="darken" w="76549" h="21600">
                <a:moveTo>
                  <a:pt x="76549" y="0"/>
                </a:moveTo>
                <a:lnTo>
                  <a:pt x="76549" y="21600"/>
                </a:lnTo>
                <a:lnTo>
                  <a:pt x="75149" y="20200"/>
                </a:lnTo>
                <a:lnTo>
                  <a:pt x="75149" y="1400"/>
                </a:lnTo>
                <a:close/>
              </a:path>
              <a:path fill="darkenLess" w="76549" h="21600">
                <a:moveTo>
                  <a:pt x="76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49" y="20200"/>
                </a:lnTo>
                <a:close/>
              </a:path>
              <a:path fill="lighten" w="76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49" h="21600">
                <a:moveTo>
                  <a:pt x="38275" y="3837"/>
                </a:moveTo>
                <a:lnTo>
                  <a:pt x="40851" y="6448"/>
                </a:ln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lnTo>
                  <a:pt x="45238" y="10800"/>
                </a:lnTo>
                <a:lnTo>
                  <a:pt x="43584" y="10800"/>
                </a:lnTo>
                <a:lnTo>
                  <a:pt x="43584" y="17989"/>
                </a:lnTo>
                <a:lnTo>
                  <a:pt x="32965" y="17989"/>
                </a:lnTo>
                <a:lnTo>
                  <a:pt x="32965" y="10800"/>
                </a:lnTo>
                <a:lnTo>
                  <a:pt x="31312" y="10800"/>
                </a:lnTo>
                <a:close/>
              </a:path>
              <a:path fill="darkenLess" w="76549" h="21600">
                <a:moveTo>
                  <a:pt x="40851" y="6448"/>
                </a:move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close/>
              </a:path>
              <a:path fill="darkenLess" w="76549" h="21600">
                <a:moveTo>
                  <a:pt x="37352" y="14299"/>
                </a:moveTo>
                <a:lnTo>
                  <a:pt x="39197" y="14299"/>
                </a:lnTo>
                <a:lnTo>
                  <a:pt x="39197" y="17989"/>
                </a:lnTo>
                <a:lnTo>
                  <a:pt x="43584" y="17989"/>
                </a:lnTo>
                <a:lnTo>
                  <a:pt x="43584" y="10800"/>
                </a:lnTo>
                <a:lnTo>
                  <a:pt x="32965" y="10800"/>
                </a:lnTo>
                <a:lnTo>
                  <a:pt x="32965" y="17989"/>
                </a:lnTo>
                <a:lnTo>
                  <a:pt x="37352" y="17989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 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5"/>
          <p:cNvSpPr/>
          <p:nvPr/>
        </p:nvSpPr>
        <p:spPr>
          <a:xfrm>
            <a:off x="2071800" y="264312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Saint Paul’s Cathed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2143080" y="335772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Westminster Abb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8"/>
          <p:cNvSpPr/>
          <p:nvPr/>
        </p:nvSpPr>
        <p:spPr>
          <a:xfrm>
            <a:off x="2286000" y="400068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Canterbury Chu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9"/>
          <p:cNvSpPr/>
          <p:nvPr/>
        </p:nvSpPr>
        <p:spPr>
          <a:xfrm>
            <a:off x="2428920" y="464328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Windsor Cas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Рисунок 10" descr="Вестминстерское.jpeg"/>
          <p:cNvPicPr/>
          <p:nvPr/>
        </p:nvPicPr>
        <p:blipFill>
          <a:blip r:embed="rId1"/>
          <a:stretch/>
        </p:blipFill>
        <p:spPr>
          <a:xfrm>
            <a:off x="6500880" y="2643120"/>
            <a:ext cx="221436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160020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ring the reign of this queen the Spanish Armada was defe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Управляющая кнопка: домой 3">
            <a:hlinkClick r:id="" action="ppaction://hlinkshowjump?jump=firstslide"/>
          </p:cNvPr>
          <p:cNvSpPr/>
          <p:nvPr/>
        </p:nvSpPr>
        <p:spPr>
          <a:xfrm>
            <a:off x="3071880" y="5857920"/>
            <a:ext cx="2786040" cy="785880"/>
          </a:xfrm>
          <a:custGeom>
            <a:avLst/>
            <a:gdLst>
              <a:gd name="textAreaLeft" fmla="*/ 50760 w 2786040"/>
              <a:gd name="textAreaRight" fmla="*/ 2735280 w 278604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76549" h="21600">
                <a:moveTo>
                  <a:pt x="0" y="0"/>
                </a:moveTo>
                <a:lnTo>
                  <a:pt x="76549" y="0"/>
                </a:lnTo>
                <a:lnTo>
                  <a:pt x="76549" y="21600"/>
                </a:lnTo>
                <a:lnTo>
                  <a:pt x="0" y="21600"/>
                </a:lnTo>
                <a:close/>
              </a:path>
              <a:path fill="lightenLess" w="76549" h="21600">
                <a:moveTo>
                  <a:pt x="0" y="0"/>
                </a:moveTo>
                <a:lnTo>
                  <a:pt x="76549" y="0"/>
                </a:lnTo>
                <a:lnTo>
                  <a:pt x="75149" y="1400"/>
                </a:lnTo>
                <a:lnTo>
                  <a:pt x="1400" y="1400"/>
                </a:lnTo>
                <a:close/>
              </a:path>
              <a:path fill="darken" w="76549" h="21600">
                <a:moveTo>
                  <a:pt x="76549" y="0"/>
                </a:moveTo>
                <a:lnTo>
                  <a:pt x="76549" y="21600"/>
                </a:lnTo>
                <a:lnTo>
                  <a:pt x="75149" y="20200"/>
                </a:lnTo>
                <a:lnTo>
                  <a:pt x="75149" y="1400"/>
                </a:lnTo>
                <a:close/>
              </a:path>
              <a:path fill="darkenLess" w="76549" h="21600">
                <a:moveTo>
                  <a:pt x="76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49" y="20200"/>
                </a:lnTo>
                <a:close/>
              </a:path>
              <a:path fill="lighten" w="76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49" h="21600">
                <a:moveTo>
                  <a:pt x="38275" y="3837"/>
                </a:moveTo>
                <a:lnTo>
                  <a:pt x="40851" y="6448"/>
                </a:ln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lnTo>
                  <a:pt x="45238" y="10800"/>
                </a:lnTo>
                <a:lnTo>
                  <a:pt x="43584" y="10800"/>
                </a:lnTo>
                <a:lnTo>
                  <a:pt x="43584" y="17989"/>
                </a:lnTo>
                <a:lnTo>
                  <a:pt x="32965" y="17989"/>
                </a:lnTo>
                <a:lnTo>
                  <a:pt x="32965" y="10800"/>
                </a:lnTo>
                <a:lnTo>
                  <a:pt x="31312" y="10800"/>
                </a:lnTo>
                <a:close/>
              </a:path>
              <a:path fill="darkenLess" w="76549" h="21600">
                <a:moveTo>
                  <a:pt x="40851" y="6448"/>
                </a:move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close/>
              </a:path>
              <a:path fill="darkenLess" w="76549" h="21600">
                <a:moveTo>
                  <a:pt x="37352" y="14299"/>
                </a:moveTo>
                <a:lnTo>
                  <a:pt x="39197" y="14299"/>
                </a:lnTo>
                <a:lnTo>
                  <a:pt x="39197" y="17989"/>
                </a:lnTo>
                <a:lnTo>
                  <a:pt x="43584" y="17989"/>
                </a:lnTo>
                <a:lnTo>
                  <a:pt x="43584" y="10800"/>
                </a:lnTo>
                <a:lnTo>
                  <a:pt x="32965" y="10800"/>
                </a:lnTo>
                <a:lnTo>
                  <a:pt x="32965" y="17989"/>
                </a:lnTo>
                <a:lnTo>
                  <a:pt x="37352" y="17989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 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5"/>
          <p:cNvSpPr/>
          <p:nvPr/>
        </p:nvSpPr>
        <p:spPr>
          <a:xfrm>
            <a:off x="2071800" y="264312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An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6"/>
          <p:cNvSpPr/>
          <p:nvPr/>
        </p:nvSpPr>
        <p:spPr>
          <a:xfrm>
            <a:off x="2143080" y="321480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Elisabeth I Tu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7"/>
          <p:cNvSpPr/>
          <p:nvPr/>
        </p:nvSpPr>
        <p:spPr>
          <a:xfrm>
            <a:off x="2214720" y="378612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Mary Tu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8"/>
          <p:cNvSpPr/>
          <p:nvPr/>
        </p:nvSpPr>
        <p:spPr>
          <a:xfrm>
            <a:off x="2286000" y="435780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Vic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Рисунок 9" descr="Елизавета1.jpeg"/>
          <p:cNvPicPr/>
          <p:nvPr/>
        </p:nvPicPr>
        <p:blipFill>
          <a:blip r:embed="rId1"/>
          <a:stretch/>
        </p:blipFill>
        <p:spPr>
          <a:xfrm>
            <a:off x="6143760" y="2286000"/>
            <a:ext cx="200016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16002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the Battle of Trafalgar the ______ fleet was defe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Управляющая кнопка: домой 3">
            <a:hlinkClick r:id="" action="ppaction://hlinkshowjump?jump=firstslide"/>
          </p:cNvPr>
          <p:cNvSpPr/>
          <p:nvPr/>
        </p:nvSpPr>
        <p:spPr>
          <a:xfrm>
            <a:off x="3071880" y="5857920"/>
            <a:ext cx="2786040" cy="785880"/>
          </a:xfrm>
          <a:custGeom>
            <a:avLst/>
            <a:gdLst>
              <a:gd name="textAreaLeft" fmla="*/ 50760 w 2786040"/>
              <a:gd name="textAreaRight" fmla="*/ 2735280 w 278604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76549" h="21600">
                <a:moveTo>
                  <a:pt x="0" y="0"/>
                </a:moveTo>
                <a:lnTo>
                  <a:pt x="76549" y="0"/>
                </a:lnTo>
                <a:lnTo>
                  <a:pt x="76549" y="21600"/>
                </a:lnTo>
                <a:lnTo>
                  <a:pt x="0" y="21600"/>
                </a:lnTo>
                <a:close/>
              </a:path>
              <a:path fill="lightenLess" w="76549" h="21600">
                <a:moveTo>
                  <a:pt x="0" y="0"/>
                </a:moveTo>
                <a:lnTo>
                  <a:pt x="76549" y="0"/>
                </a:lnTo>
                <a:lnTo>
                  <a:pt x="75149" y="1400"/>
                </a:lnTo>
                <a:lnTo>
                  <a:pt x="1400" y="1400"/>
                </a:lnTo>
                <a:close/>
              </a:path>
              <a:path fill="darken" w="76549" h="21600">
                <a:moveTo>
                  <a:pt x="76549" y="0"/>
                </a:moveTo>
                <a:lnTo>
                  <a:pt x="76549" y="21600"/>
                </a:lnTo>
                <a:lnTo>
                  <a:pt x="75149" y="20200"/>
                </a:lnTo>
                <a:lnTo>
                  <a:pt x="75149" y="1400"/>
                </a:lnTo>
                <a:close/>
              </a:path>
              <a:path fill="darkenLess" w="76549" h="21600">
                <a:moveTo>
                  <a:pt x="76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49" y="20200"/>
                </a:lnTo>
                <a:close/>
              </a:path>
              <a:path fill="lighten" w="76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49" h="21600">
                <a:moveTo>
                  <a:pt x="38275" y="3837"/>
                </a:moveTo>
                <a:lnTo>
                  <a:pt x="40851" y="6448"/>
                </a:ln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lnTo>
                  <a:pt x="45238" y="10800"/>
                </a:lnTo>
                <a:lnTo>
                  <a:pt x="43584" y="10800"/>
                </a:lnTo>
                <a:lnTo>
                  <a:pt x="43584" y="17989"/>
                </a:lnTo>
                <a:lnTo>
                  <a:pt x="32965" y="17989"/>
                </a:lnTo>
                <a:lnTo>
                  <a:pt x="32965" y="10800"/>
                </a:lnTo>
                <a:lnTo>
                  <a:pt x="31312" y="10800"/>
                </a:lnTo>
                <a:close/>
              </a:path>
              <a:path fill="darkenLess" w="76549" h="21600">
                <a:moveTo>
                  <a:pt x="40851" y="6448"/>
                </a:move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close/>
              </a:path>
              <a:path fill="darkenLess" w="76549" h="21600">
                <a:moveTo>
                  <a:pt x="37352" y="14299"/>
                </a:moveTo>
                <a:lnTo>
                  <a:pt x="39197" y="14299"/>
                </a:lnTo>
                <a:lnTo>
                  <a:pt x="39197" y="17989"/>
                </a:lnTo>
                <a:lnTo>
                  <a:pt x="43584" y="17989"/>
                </a:lnTo>
                <a:lnTo>
                  <a:pt x="43584" y="10800"/>
                </a:lnTo>
                <a:lnTo>
                  <a:pt x="32965" y="10800"/>
                </a:lnTo>
                <a:lnTo>
                  <a:pt x="32965" y="17989"/>
                </a:lnTo>
                <a:lnTo>
                  <a:pt x="37352" y="17989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 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5"/>
          <p:cNvSpPr/>
          <p:nvPr/>
        </p:nvSpPr>
        <p:spPr>
          <a:xfrm>
            <a:off x="2071800" y="264312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Brit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2214720" y="335772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G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7"/>
          <p:cNvSpPr/>
          <p:nvPr/>
        </p:nvSpPr>
        <p:spPr>
          <a:xfrm>
            <a:off x="2286000" y="400068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Spa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8"/>
          <p:cNvSpPr/>
          <p:nvPr/>
        </p:nvSpPr>
        <p:spPr>
          <a:xfrm>
            <a:off x="2357280" y="4572000"/>
            <a:ext cx="49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28760" y="135720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the death of her husband in 1861 this queen had never married again. She became known as th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randmother of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Управляющая кнопка: домой 3">
            <a:hlinkClick r:id="" action="ppaction://hlinkshowjump?jump=firstslide"/>
          </p:cNvPr>
          <p:cNvSpPr/>
          <p:nvPr/>
        </p:nvSpPr>
        <p:spPr>
          <a:xfrm>
            <a:off x="3071880" y="5857920"/>
            <a:ext cx="2786040" cy="785880"/>
          </a:xfrm>
          <a:custGeom>
            <a:avLst/>
            <a:gdLst>
              <a:gd name="textAreaLeft" fmla="*/ 50760 w 2786040"/>
              <a:gd name="textAreaRight" fmla="*/ 2735280 w 278604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76549" h="21600">
                <a:moveTo>
                  <a:pt x="0" y="0"/>
                </a:moveTo>
                <a:lnTo>
                  <a:pt x="76549" y="0"/>
                </a:lnTo>
                <a:lnTo>
                  <a:pt x="76549" y="21600"/>
                </a:lnTo>
                <a:lnTo>
                  <a:pt x="0" y="21600"/>
                </a:lnTo>
                <a:close/>
              </a:path>
              <a:path fill="lightenLess" w="76549" h="21600">
                <a:moveTo>
                  <a:pt x="0" y="0"/>
                </a:moveTo>
                <a:lnTo>
                  <a:pt x="76549" y="0"/>
                </a:lnTo>
                <a:lnTo>
                  <a:pt x="75149" y="1400"/>
                </a:lnTo>
                <a:lnTo>
                  <a:pt x="1400" y="1400"/>
                </a:lnTo>
                <a:close/>
              </a:path>
              <a:path fill="darken" w="76549" h="21600">
                <a:moveTo>
                  <a:pt x="76549" y="0"/>
                </a:moveTo>
                <a:lnTo>
                  <a:pt x="76549" y="21600"/>
                </a:lnTo>
                <a:lnTo>
                  <a:pt x="75149" y="20200"/>
                </a:lnTo>
                <a:lnTo>
                  <a:pt x="75149" y="1400"/>
                </a:lnTo>
                <a:close/>
              </a:path>
              <a:path fill="darkenLess" w="76549" h="21600">
                <a:moveTo>
                  <a:pt x="76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49" y="20200"/>
                </a:lnTo>
                <a:close/>
              </a:path>
              <a:path fill="lighten" w="76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49" h="21600">
                <a:moveTo>
                  <a:pt x="38275" y="3837"/>
                </a:moveTo>
                <a:lnTo>
                  <a:pt x="40851" y="6448"/>
                </a:ln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lnTo>
                  <a:pt x="45238" y="10800"/>
                </a:lnTo>
                <a:lnTo>
                  <a:pt x="43584" y="10800"/>
                </a:lnTo>
                <a:lnTo>
                  <a:pt x="43584" y="17989"/>
                </a:lnTo>
                <a:lnTo>
                  <a:pt x="32965" y="17989"/>
                </a:lnTo>
                <a:lnTo>
                  <a:pt x="32965" y="10800"/>
                </a:lnTo>
                <a:lnTo>
                  <a:pt x="31312" y="10800"/>
                </a:lnTo>
                <a:close/>
              </a:path>
              <a:path fill="darkenLess" w="76549" h="21600">
                <a:moveTo>
                  <a:pt x="40851" y="6448"/>
                </a:move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close/>
              </a:path>
              <a:path fill="darkenLess" w="76549" h="21600">
                <a:moveTo>
                  <a:pt x="37352" y="14299"/>
                </a:moveTo>
                <a:lnTo>
                  <a:pt x="39197" y="14299"/>
                </a:lnTo>
                <a:lnTo>
                  <a:pt x="39197" y="17989"/>
                </a:lnTo>
                <a:lnTo>
                  <a:pt x="43584" y="17989"/>
                </a:lnTo>
                <a:lnTo>
                  <a:pt x="43584" y="10800"/>
                </a:lnTo>
                <a:lnTo>
                  <a:pt x="32965" y="10800"/>
                </a:lnTo>
                <a:lnTo>
                  <a:pt x="32965" y="17989"/>
                </a:lnTo>
                <a:lnTo>
                  <a:pt x="37352" y="17989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 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5"/>
          <p:cNvSpPr/>
          <p:nvPr/>
        </p:nvSpPr>
        <p:spPr>
          <a:xfrm>
            <a:off x="928800" y="300024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An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6"/>
          <p:cNvSpPr/>
          <p:nvPr/>
        </p:nvSpPr>
        <p:spPr>
          <a:xfrm>
            <a:off x="1000080" y="357192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Vic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1071720" y="421488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Elisabeth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8"/>
          <p:cNvSpPr/>
          <p:nvPr/>
        </p:nvSpPr>
        <p:spPr>
          <a:xfrm>
            <a:off x="1143000" y="478620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Mary Stew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Рисунок 9" descr="Виктория.jpeg"/>
          <p:cNvPicPr/>
          <p:nvPr/>
        </p:nvPicPr>
        <p:blipFill>
          <a:blip r:embed="rId1"/>
          <a:stretch/>
        </p:blipFill>
        <p:spPr>
          <a:xfrm>
            <a:off x="6357960" y="3000240"/>
            <a:ext cx="19000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57200" y="1599840"/>
            <a:ext cx="82296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ime minister of Great Britain during the Second World War  was ______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Управляющая кнопка: домой 3">
            <a:hlinkClick r:id="" action="ppaction://hlinkshowjump?jump=firstslide"/>
          </p:cNvPr>
          <p:cNvSpPr/>
          <p:nvPr/>
        </p:nvSpPr>
        <p:spPr>
          <a:xfrm>
            <a:off x="3071880" y="5857920"/>
            <a:ext cx="2786040" cy="785880"/>
          </a:xfrm>
          <a:custGeom>
            <a:avLst/>
            <a:gdLst>
              <a:gd name="textAreaLeft" fmla="*/ 50760 w 2786040"/>
              <a:gd name="textAreaRight" fmla="*/ 2735280 w 278604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76549" h="21600">
                <a:moveTo>
                  <a:pt x="0" y="0"/>
                </a:moveTo>
                <a:lnTo>
                  <a:pt x="76549" y="0"/>
                </a:lnTo>
                <a:lnTo>
                  <a:pt x="76549" y="21600"/>
                </a:lnTo>
                <a:lnTo>
                  <a:pt x="0" y="21600"/>
                </a:lnTo>
                <a:close/>
              </a:path>
              <a:path fill="lightenLess" w="76549" h="21600">
                <a:moveTo>
                  <a:pt x="0" y="0"/>
                </a:moveTo>
                <a:lnTo>
                  <a:pt x="76549" y="0"/>
                </a:lnTo>
                <a:lnTo>
                  <a:pt x="75149" y="1400"/>
                </a:lnTo>
                <a:lnTo>
                  <a:pt x="1400" y="1400"/>
                </a:lnTo>
                <a:close/>
              </a:path>
              <a:path fill="darken" w="76549" h="21600">
                <a:moveTo>
                  <a:pt x="76549" y="0"/>
                </a:moveTo>
                <a:lnTo>
                  <a:pt x="76549" y="21600"/>
                </a:lnTo>
                <a:lnTo>
                  <a:pt x="75149" y="20200"/>
                </a:lnTo>
                <a:lnTo>
                  <a:pt x="75149" y="1400"/>
                </a:lnTo>
                <a:close/>
              </a:path>
              <a:path fill="darkenLess" w="76549" h="21600">
                <a:moveTo>
                  <a:pt x="76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49" y="20200"/>
                </a:lnTo>
                <a:close/>
              </a:path>
              <a:path fill="lighten" w="76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49" h="21600">
                <a:moveTo>
                  <a:pt x="38275" y="3837"/>
                </a:moveTo>
                <a:lnTo>
                  <a:pt x="40851" y="6448"/>
                </a:ln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lnTo>
                  <a:pt x="45238" y="10800"/>
                </a:lnTo>
                <a:lnTo>
                  <a:pt x="43584" y="10800"/>
                </a:lnTo>
                <a:lnTo>
                  <a:pt x="43584" y="17989"/>
                </a:lnTo>
                <a:lnTo>
                  <a:pt x="32965" y="17989"/>
                </a:lnTo>
                <a:lnTo>
                  <a:pt x="32965" y="10800"/>
                </a:lnTo>
                <a:lnTo>
                  <a:pt x="31312" y="10800"/>
                </a:lnTo>
                <a:close/>
              </a:path>
              <a:path fill="darkenLess" w="76549" h="21600">
                <a:moveTo>
                  <a:pt x="40851" y="6448"/>
                </a:move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close/>
              </a:path>
              <a:path fill="darkenLess" w="76549" h="21600">
                <a:moveTo>
                  <a:pt x="37352" y="14299"/>
                </a:moveTo>
                <a:lnTo>
                  <a:pt x="39197" y="14299"/>
                </a:lnTo>
                <a:lnTo>
                  <a:pt x="39197" y="17989"/>
                </a:lnTo>
                <a:lnTo>
                  <a:pt x="43584" y="17989"/>
                </a:lnTo>
                <a:lnTo>
                  <a:pt x="43584" y="10800"/>
                </a:lnTo>
                <a:lnTo>
                  <a:pt x="32965" y="10800"/>
                </a:lnTo>
                <a:lnTo>
                  <a:pt x="32965" y="17989"/>
                </a:lnTo>
                <a:lnTo>
                  <a:pt x="37352" y="17989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 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5"/>
          <p:cNvSpPr/>
          <p:nvPr/>
        </p:nvSpPr>
        <p:spPr>
          <a:xfrm>
            <a:off x="928800" y="300024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John Maj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1071720" y="364320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Tony Bla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7"/>
          <p:cNvSpPr/>
          <p:nvPr/>
        </p:nvSpPr>
        <p:spPr>
          <a:xfrm>
            <a:off x="1143000" y="421488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Winston Church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8"/>
          <p:cNvSpPr/>
          <p:nvPr/>
        </p:nvSpPr>
        <p:spPr>
          <a:xfrm>
            <a:off x="1428840" y="478620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Franklin Roosewe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Рисунок 9" descr="Черчиль.jpeg"/>
          <p:cNvPicPr/>
          <p:nvPr/>
        </p:nvPicPr>
        <p:blipFill>
          <a:blip r:embed="rId1"/>
          <a:stretch/>
        </p:blipFill>
        <p:spPr>
          <a:xfrm>
            <a:off x="5715000" y="2714760"/>
            <a:ext cx="19288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mmar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usually _________ lunch at 12 o’clo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1285920" y="271476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2000160" y="335772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are h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2786040" y="414324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3500280" y="4714920"/>
            <a:ext cx="27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have been h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Управляющая кнопка: домой 7">
            <a:hlinkClick r:id="" action="ppaction://hlinkshowjump?jump=firstslide"/>
          </p:cNvPr>
          <p:cNvSpPr/>
          <p:nvPr/>
        </p:nvSpPr>
        <p:spPr>
          <a:xfrm>
            <a:off x="3071880" y="5857920"/>
            <a:ext cx="2786040" cy="785880"/>
          </a:xfrm>
          <a:custGeom>
            <a:avLst/>
            <a:gdLst>
              <a:gd name="textAreaLeft" fmla="*/ 50760 w 2786040"/>
              <a:gd name="textAreaRight" fmla="*/ 2735280 w 278604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76549" h="21600">
                <a:moveTo>
                  <a:pt x="0" y="0"/>
                </a:moveTo>
                <a:lnTo>
                  <a:pt x="76549" y="0"/>
                </a:lnTo>
                <a:lnTo>
                  <a:pt x="76549" y="21600"/>
                </a:lnTo>
                <a:lnTo>
                  <a:pt x="0" y="21600"/>
                </a:lnTo>
                <a:close/>
              </a:path>
              <a:path fill="lightenLess" w="76549" h="21600">
                <a:moveTo>
                  <a:pt x="0" y="0"/>
                </a:moveTo>
                <a:lnTo>
                  <a:pt x="76549" y="0"/>
                </a:lnTo>
                <a:lnTo>
                  <a:pt x="75149" y="1400"/>
                </a:lnTo>
                <a:lnTo>
                  <a:pt x="1400" y="1400"/>
                </a:lnTo>
                <a:close/>
              </a:path>
              <a:path fill="darken" w="76549" h="21600">
                <a:moveTo>
                  <a:pt x="76549" y="0"/>
                </a:moveTo>
                <a:lnTo>
                  <a:pt x="76549" y="21600"/>
                </a:lnTo>
                <a:lnTo>
                  <a:pt x="75149" y="20200"/>
                </a:lnTo>
                <a:lnTo>
                  <a:pt x="75149" y="1400"/>
                </a:lnTo>
                <a:close/>
              </a:path>
              <a:path fill="darkenLess" w="76549" h="21600">
                <a:moveTo>
                  <a:pt x="76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49" y="20200"/>
                </a:lnTo>
                <a:close/>
              </a:path>
              <a:path fill="lighten" w="76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49" h="21600">
                <a:moveTo>
                  <a:pt x="38275" y="3837"/>
                </a:moveTo>
                <a:lnTo>
                  <a:pt x="40851" y="6448"/>
                </a:ln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lnTo>
                  <a:pt x="45238" y="10800"/>
                </a:lnTo>
                <a:lnTo>
                  <a:pt x="43584" y="10800"/>
                </a:lnTo>
                <a:lnTo>
                  <a:pt x="43584" y="17989"/>
                </a:lnTo>
                <a:lnTo>
                  <a:pt x="32965" y="17989"/>
                </a:lnTo>
                <a:lnTo>
                  <a:pt x="32965" y="10800"/>
                </a:lnTo>
                <a:lnTo>
                  <a:pt x="31312" y="10800"/>
                </a:lnTo>
                <a:close/>
              </a:path>
              <a:path fill="darkenLess" w="76549" h="21600">
                <a:moveTo>
                  <a:pt x="40851" y="6448"/>
                </a:move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close/>
              </a:path>
              <a:path fill="darkenLess" w="76549" h="21600">
                <a:moveTo>
                  <a:pt x="37352" y="14299"/>
                </a:moveTo>
                <a:lnTo>
                  <a:pt x="39197" y="14299"/>
                </a:lnTo>
                <a:lnTo>
                  <a:pt x="39197" y="17989"/>
                </a:lnTo>
                <a:lnTo>
                  <a:pt x="43584" y="17989"/>
                </a:lnTo>
                <a:lnTo>
                  <a:pt x="43584" y="10800"/>
                </a:lnTo>
                <a:lnTo>
                  <a:pt x="32965" y="10800"/>
                </a:lnTo>
                <a:lnTo>
                  <a:pt x="32965" y="17989"/>
                </a:lnTo>
                <a:lnTo>
                  <a:pt x="37352" y="17989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ачал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ienc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599840"/>
            <a:ext cx="822960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eat English physicist and mathematician. He formulated the binomial theorem, discovered th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aw of Universal Gravit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Управляющая кнопка: домой 3">
            <a:hlinkClick r:id="" action="ppaction://hlinkshowjump?jump=firstslide"/>
          </p:cNvPr>
          <p:cNvSpPr/>
          <p:nvPr/>
        </p:nvSpPr>
        <p:spPr>
          <a:xfrm>
            <a:off x="3000240" y="5857920"/>
            <a:ext cx="2786040" cy="785880"/>
          </a:xfrm>
          <a:custGeom>
            <a:avLst/>
            <a:gdLst>
              <a:gd name="textAreaLeft" fmla="*/ 50760 w 2786040"/>
              <a:gd name="textAreaRight" fmla="*/ 2735280 w 278604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76549" h="21600">
                <a:moveTo>
                  <a:pt x="0" y="0"/>
                </a:moveTo>
                <a:lnTo>
                  <a:pt x="76549" y="0"/>
                </a:lnTo>
                <a:lnTo>
                  <a:pt x="76549" y="21600"/>
                </a:lnTo>
                <a:lnTo>
                  <a:pt x="0" y="21600"/>
                </a:lnTo>
                <a:close/>
              </a:path>
              <a:path fill="lightenLess" w="76549" h="21600">
                <a:moveTo>
                  <a:pt x="0" y="0"/>
                </a:moveTo>
                <a:lnTo>
                  <a:pt x="76549" y="0"/>
                </a:lnTo>
                <a:lnTo>
                  <a:pt x="75149" y="1400"/>
                </a:lnTo>
                <a:lnTo>
                  <a:pt x="1400" y="1400"/>
                </a:lnTo>
                <a:close/>
              </a:path>
              <a:path fill="darken" w="76549" h="21600">
                <a:moveTo>
                  <a:pt x="76549" y="0"/>
                </a:moveTo>
                <a:lnTo>
                  <a:pt x="76549" y="21600"/>
                </a:lnTo>
                <a:lnTo>
                  <a:pt x="75149" y="20200"/>
                </a:lnTo>
                <a:lnTo>
                  <a:pt x="75149" y="1400"/>
                </a:lnTo>
                <a:close/>
              </a:path>
              <a:path fill="darkenLess" w="76549" h="21600">
                <a:moveTo>
                  <a:pt x="76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49" y="20200"/>
                </a:lnTo>
                <a:close/>
              </a:path>
              <a:path fill="lighten" w="76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49" h="21600">
                <a:moveTo>
                  <a:pt x="38275" y="3837"/>
                </a:moveTo>
                <a:lnTo>
                  <a:pt x="40851" y="6448"/>
                </a:ln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lnTo>
                  <a:pt x="45238" y="10800"/>
                </a:lnTo>
                <a:lnTo>
                  <a:pt x="43584" y="10800"/>
                </a:lnTo>
                <a:lnTo>
                  <a:pt x="43584" y="17989"/>
                </a:lnTo>
                <a:lnTo>
                  <a:pt x="32965" y="17989"/>
                </a:lnTo>
                <a:lnTo>
                  <a:pt x="32965" y="10800"/>
                </a:lnTo>
                <a:lnTo>
                  <a:pt x="31312" y="10800"/>
                </a:lnTo>
                <a:close/>
              </a:path>
              <a:path fill="darkenLess" w="76549" h="21600">
                <a:moveTo>
                  <a:pt x="40851" y="6448"/>
                </a:move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close/>
              </a:path>
              <a:path fill="darkenLess" w="76549" h="21600">
                <a:moveTo>
                  <a:pt x="37352" y="14299"/>
                </a:moveTo>
                <a:lnTo>
                  <a:pt x="39197" y="14299"/>
                </a:lnTo>
                <a:lnTo>
                  <a:pt x="39197" y="17989"/>
                </a:lnTo>
                <a:lnTo>
                  <a:pt x="43584" y="17989"/>
                </a:lnTo>
                <a:lnTo>
                  <a:pt x="43584" y="10800"/>
                </a:lnTo>
                <a:lnTo>
                  <a:pt x="32965" y="10800"/>
                </a:lnTo>
                <a:lnTo>
                  <a:pt x="32965" y="17989"/>
                </a:lnTo>
                <a:lnTo>
                  <a:pt x="37352" y="17989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ачал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1071720" y="328608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Lord Kelv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1285920" y="492912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James Wa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6"/>
          <p:cNvSpPr/>
          <p:nvPr/>
        </p:nvSpPr>
        <p:spPr>
          <a:xfrm>
            <a:off x="1143000" y="435780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Daniel Bern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7"/>
          <p:cNvSpPr/>
          <p:nvPr/>
        </p:nvSpPr>
        <p:spPr>
          <a:xfrm>
            <a:off x="1285920" y="378612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Sir Isaac New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Рисунок 8" descr="Ньютон.jpeg"/>
          <p:cNvPicPr/>
          <p:nvPr/>
        </p:nvPicPr>
        <p:blipFill>
          <a:blip r:embed="rId1"/>
          <a:stretch/>
        </p:blipFill>
        <p:spPr>
          <a:xfrm>
            <a:off x="6215040" y="3143160"/>
            <a:ext cx="192888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1599840"/>
            <a:ext cx="822960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xperiment performed by this physicist showed that the atom is made up of smaller par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Управляющая кнопка: домой 3">
            <a:hlinkClick r:id="" action="ppaction://hlinkshowjump?jump=firstslide"/>
          </p:cNvPr>
          <p:cNvSpPr/>
          <p:nvPr/>
        </p:nvSpPr>
        <p:spPr>
          <a:xfrm>
            <a:off x="3000240" y="5857920"/>
            <a:ext cx="2786040" cy="785880"/>
          </a:xfrm>
          <a:custGeom>
            <a:avLst/>
            <a:gdLst>
              <a:gd name="textAreaLeft" fmla="*/ 50760 w 2786040"/>
              <a:gd name="textAreaRight" fmla="*/ 2735280 w 278604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76549" h="21600">
                <a:moveTo>
                  <a:pt x="0" y="0"/>
                </a:moveTo>
                <a:lnTo>
                  <a:pt x="76549" y="0"/>
                </a:lnTo>
                <a:lnTo>
                  <a:pt x="76549" y="21600"/>
                </a:lnTo>
                <a:lnTo>
                  <a:pt x="0" y="21600"/>
                </a:lnTo>
                <a:close/>
              </a:path>
              <a:path fill="lightenLess" w="76549" h="21600">
                <a:moveTo>
                  <a:pt x="0" y="0"/>
                </a:moveTo>
                <a:lnTo>
                  <a:pt x="76549" y="0"/>
                </a:lnTo>
                <a:lnTo>
                  <a:pt x="75149" y="1400"/>
                </a:lnTo>
                <a:lnTo>
                  <a:pt x="1400" y="1400"/>
                </a:lnTo>
                <a:close/>
              </a:path>
              <a:path fill="darken" w="76549" h="21600">
                <a:moveTo>
                  <a:pt x="76549" y="0"/>
                </a:moveTo>
                <a:lnTo>
                  <a:pt x="76549" y="21600"/>
                </a:lnTo>
                <a:lnTo>
                  <a:pt x="75149" y="20200"/>
                </a:lnTo>
                <a:lnTo>
                  <a:pt x="75149" y="1400"/>
                </a:lnTo>
                <a:close/>
              </a:path>
              <a:path fill="darkenLess" w="76549" h="21600">
                <a:moveTo>
                  <a:pt x="76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49" y="20200"/>
                </a:lnTo>
                <a:close/>
              </a:path>
              <a:path fill="lighten" w="76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49" h="21600">
                <a:moveTo>
                  <a:pt x="38275" y="3837"/>
                </a:moveTo>
                <a:lnTo>
                  <a:pt x="40851" y="6448"/>
                </a:ln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lnTo>
                  <a:pt x="45238" y="10800"/>
                </a:lnTo>
                <a:lnTo>
                  <a:pt x="43584" y="10800"/>
                </a:lnTo>
                <a:lnTo>
                  <a:pt x="43584" y="17989"/>
                </a:lnTo>
                <a:lnTo>
                  <a:pt x="32965" y="17989"/>
                </a:lnTo>
                <a:lnTo>
                  <a:pt x="32965" y="10800"/>
                </a:lnTo>
                <a:lnTo>
                  <a:pt x="31312" y="10800"/>
                </a:lnTo>
                <a:close/>
              </a:path>
              <a:path fill="darkenLess" w="76549" h="21600">
                <a:moveTo>
                  <a:pt x="40851" y="6448"/>
                </a:move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close/>
              </a:path>
              <a:path fill="darkenLess" w="76549" h="21600">
                <a:moveTo>
                  <a:pt x="37352" y="14299"/>
                </a:moveTo>
                <a:lnTo>
                  <a:pt x="39197" y="14299"/>
                </a:lnTo>
                <a:lnTo>
                  <a:pt x="39197" y="17989"/>
                </a:lnTo>
                <a:lnTo>
                  <a:pt x="43584" y="17989"/>
                </a:lnTo>
                <a:lnTo>
                  <a:pt x="43584" y="10800"/>
                </a:lnTo>
                <a:lnTo>
                  <a:pt x="32965" y="10800"/>
                </a:lnTo>
                <a:lnTo>
                  <a:pt x="32965" y="17989"/>
                </a:lnTo>
                <a:lnTo>
                  <a:pt x="37352" y="17989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ачал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ienc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1071720" y="328608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Lord Kelv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1214280" y="3857760"/>
            <a:ext cx="49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Robert Bo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1285920" y="442908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Michael Milli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1428840" y="500076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Ernest Rutherf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Рисунок 9" descr="Резерфорд.jpeg"/>
          <p:cNvPicPr/>
          <p:nvPr/>
        </p:nvPicPr>
        <p:blipFill>
          <a:blip r:embed="rId1"/>
          <a:stretch/>
        </p:blipFill>
        <p:spPr>
          <a:xfrm>
            <a:off x="5715000" y="2786040"/>
            <a:ext cx="1959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57200" y="16002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captain died during his expedition in Antarctic, returning from the South Po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Управляющая кнопка: домой 3">
            <a:hlinkClick r:id="" action="ppaction://hlinkshowjump?jump=firstslide"/>
          </p:cNvPr>
          <p:cNvSpPr/>
          <p:nvPr/>
        </p:nvSpPr>
        <p:spPr>
          <a:xfrm>
            <a:off x="3000240" y="5857920"/>
            <a:ext cx="2786040" cy="785880"/>
          </a:xfrm>
          <a:custGeom>
            <a:avLst/>
            <a:gdLst>
              <a:gd name="textAreaLeft" fmla="*/ 50760 w 2786040"/>
              <a:gd name="textAreaRight" fmla="*/ 2735280 w 278604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76549" h="21600">
                <a:moveTo>
                  <a:pt x="0" y="0"/>
                </a:moveTo>
                <a:lnTo>
                  <a:pt x="76549" y="0"/>
                </a:lnTo>
                <a:lnTo>
                  <a:pt x="76549" y="21600"/>
                </a:lnTo>
                <a:lnTo>
                  <a:pt x="0" y="21600"/>
                </a:lnTo>
                <a:close/>
              </a:path>
              <a:path fill="lightenLess" w="76549" h="21600">
                <a:moveTo>
                  <a:pt x="0" y="0"/>
                </a:moveTo>
                <a:lnTo>
                  <a:pt x="76549" y="0"/>
                </a:lnTo>
                <a:lnTo>
                  <a:pt x="75149" y="1400"/>
                </a:lnTo>
                <a:lnTo>
                  <a:pt x="1400" y="1400"/>
                </a:lnTo>
                <a:close/>
              </a:path>
              <a:path fill="darken" w="76549" h="21600">
                <a:moveTo>
                  <a:pt x="76549" y="0"/>
                </a:moveTo>
                <a:lnTo>
                  <a:pt x="76549" y="21600"/>
                </a:lnTo>
                <a:lnTo>
                  <a:pt x="75149" y="20200"/>
                </a:lnTo>
                <a:lnTo>
                  <a:pt x="75149" y="1400"/>
                </a:lnTo>
                <a:close/>
              </a:path>
              <a:path fill="darkenLess" w="76549" h="21600">
                <a:moveTo>
                  <a:pt x="76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49" y="20200"/>
                </a:lnTo>
                <a:close/>
              </a:path>
              <a:path fill="lighten" w="76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49" h="21600">
                <a:moveTo>
                  <a:pt x="38275" y="3837"/>
                </a:moveTo>
                <a:lnTo>
                  <a:pt x="40851" y="6448"/>
                </a:ln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lnTo>
                  <a:pt x="45238" y="10800"/>
                </a:lnTo>
                <a:lnTo>
                  <a:pt x="43584" y="10800"/>
                </a:lnTo>
                <a:lnTo>
                  <a:pt x="43584" y="17989"/>
                </a:lnTo>
                <a:lnTo>
                  <a:pt x="32965" y="17989"/>
                </a:lnTo>
                <a:lnTo>
                  <a:pt x="32965" y="10800"/>
                </a:lnTo>
                <a:lnTo>
                  <a:pt x="31312" y="10800"/>
                </a:lnTo>
                <a:close/>
              </a:path>
              <a:path fill="darkenLess" w="76549" h="21600">
                <a:moveTo>
                  <a:pt x="40851" y="6448"/>
                </a:move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close/>
              </a:path>
              <a:path fill="darkenLess" w="76549" h="21600">
                <a:moveTo>
                  <a:pt x="37352" y="14299"/>
                </a:moveTo>
                <a:lnTo>
                  <a:pt x="39197" y="14299"/>
                </a:lnTo>
                <a:lnTo>
                  <a:pt x="39197" y="17989"/>
                </a:lnTo>
                <a:lnTo>
                  <a:pt x="43584" y="17989"/>
                </a:lnTo>
                <a:lnTo>
                  <a:pt x="43584" y="10800"/>
                </a:lnTo>
                <a:lnTo>
                  <a:pt x="32965" y="10800"/>
                </a:lnTo>
                <a:lnTo>
                  <a:pt x="32965" y="17989"/>
                </a:lnTo>
                <a:lnTo>
                  <a:pt x="37352" y="17989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ачал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ienc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5"/>
          <p:cNvSpPr/>
          <p:nvPr/>
        </p:nvSpPr>
        <p:spPr>
          <a:xfrm>
            <a:off x="1071720" y="278604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captain Robert Sco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6"/>
          <p:cNvSpPr/>
          <p:nvPr/>
        </p:nvSpPr>
        <p:spPr>
          <a:xfrm>
            <a:off x="1143000" y="335772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captain Horatio Nel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8"/>
          <p:cNvSpPr/>
          <p:nvPr/>
        </p:nvSpPr>
        <p:spPr>
          <a:xfrm>
            <a:off x="1214280" y="4000680"/>
            <a:ext cx="49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captain James C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9"/>
          <p:cNvSpPr/>
          <p:nvPr/>
        </p:nvSpPr>
        <p:spPr>
          <a:xfrm>
            <a:off x="1285920" y="471492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captain Walter Raleig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Рисунок 10" descr="капитан Скотт.jpeg"/>
          <p:cNvPicPr/>
          <p:nvPr/>
        </p:nvPicPr>
        <p:blipFill>
          <a:blip r:embed="rId1"/>
          <a:stretch/>
        </p:blipFill>
        <p:spPr>
          <a:xfrm>
            <a:off x="5715000" y="2786040"/>
            <a:ext cx="192888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599840"/>
            <a:ext cx="822960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captain discovered Australia and new Zealand. Was killed on one of the Hawaiian Islands by nati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Управляющая кнопка: домой 3">
            <a:hlinkClick r:id="" action="ppaction://hlinkshowjump?jump=firstslide"/>
          </p:cNvPr>
          <p:cNvSpPr/>
          <p:nvPr/>
        </p:nvSpPr>
        <p:spPr>
          <a:xfrm>
            <a:off x="3000240" y="5857920"/>
            <a:ext cx="2786040" cy="785880"/>
          </a:xfrm>
          <a:custGeom>
            <a:avLst/>
            <a:gdLst>
              <a:gd name="textAreaLeft" fmla="*/ 50760 w 2786040"/>
              <a:gd name="textAreaRight" fmla="*/ 2735280 w 278604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76549" h="21600">
                <a:moveTo>
                  <a:pt x="0" y="0"/>
                </a:moveTo>
                <a:lnTo>
                  <a:pt x="76549" y="0"/>
                </a:lnTo>
                <a:lnTo>
                  <a:pt x="76549" y="21600"/>
                </a:lnTo>
                <a:lnTo>
                  <a:pt x="0" y="21600"/>
                </a:lnTo>
                <a:close/>
              </a:path>
              <a:path fill="lightenLess" w="76549" h="21600">
                <a:moveTo>
                  <a:pt x="0" y="0"/>
                </a:moveTo>
                <a:lnTo>
                  <a:pt x="76549" y="0"/>
                </a:lnTo>
                <a:lnTo>
                  <a:pt x="75149" y="1400"/>
                </a:lnTo>
                <a:lnTo>
                  <a:pt x="1400" y="1400"/>
                </a:lnTo>
                <a:close/>
              </a:path>
              <a:path fill="darken" w="76549" h="21600">
                <a:moveTo>
                  <a:pt x="76549" y="0"/>
                </a:moveTo>
                <a:lnTo>
                  <a:pt x="76549" y="21600"/>
                </a:lnTo>
                <a:lnTo>
                  <a:pt x="75149" y="20200"/>
                </a:lnTo>
                <a:lnTo>
                  <a:pt x="75149" y="1400"/>
                </a:lnTo>
                <a:close/>
              </a:path>
              <a:path fill="darkenLess" w="76549" h="21600">
                <a:moveTo>
                  <a:pt x="76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49" y="20200"/>
                </a:lnTo>
                <a:close/>
              </a:path>
              <a:path fill="lighten" w="76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49" h="21600">
                <a:moveTo>
                  <a:pt x="38275" y="3837"/>
                </a:moveTo>
                <a:lnTo>
                  <a:pt x="40851" y="6448"/>
                </a:ln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lnTo>
                  <a:pt x="45238" y="10800"/>
                </a:lnTo>
                <a:lnTo>
                  <a:pt x="43584" y="10800"/>
                </a:lnTo>
                <a:lnTo>
                  <a:pt x="43584" y="17989"/>
                </a:lnTo>
                <a:lnTo>
                  <a:pt x="32965" y="17989"/>
                </a:lnTo>
                <a:lnTo>
                  <a:pt x="32965" y="10800"/>
                </a:lnTo>
                <a:lnTo>
                  <a:pt x="31312" y="10800"/>
                </a:lnTo>
                <a:close/>
              </a:path>
              <a:path fill="darkenLess" w="76549" h="21600">
                <a:moveTo>
                  <a:pt x="40851" y="6448"/>
                </a:move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close/>
              </a:path>
              <a:path fill="darkenLess" w="76549" h="21600">
                <a:moveTo>
                  <a:pt x="37352" y="14299"/>
                </a:moveTo>
                <a:lnTo>
                  <a:pt x="39197" y="14299"/>
                </a:lnTo>
                <a:lnTo>
                  <a:pt x="39197" y="17989"/>
                </a:lnTo>
                <a:lnTo>
                  <a:pt x="43584" y="17989"/>
                </a:lnTo>
                <a:lnTo>
                  <a:pt x="43584" y="10800"/>
                </a:lnTo>
                <a:lnTo>
                  <a:pt x="32965" y="10800"/>
                </a:lnTo>
                <a:lnTo>
                  <a:pt x="32965" y="17989"/>
                </a:lnTo>
                <a:lnTo>
                  <a:pt x="37352" y="17989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ачал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ience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1143000" y="335772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Francis Dr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6"/>
          <p:cNvSpPr/>
          <p:nvPr/>
        </p:nvSpPr>
        <p:spPr>
          <a:xfrm>
            <a:off x="1143000" y="385776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James C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7"/>
          <p:cNvSpPr/>
          <p:nvPr/>
        </p:nvSpPr>
        <p:spPr>
          <a:xfrm>
            <a:off x="1143000" y="442908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Horatio Nel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8"/>
          <p:cNvSpPr/>
          <p:nvPr/>
        </p:nvSpPr>
        <p:spPr>
          <a:xfrm>
            <a:off x="1285920" y="492912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Arthur Welling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Рисунок 9" descr="Кук.jpeg"/>
          <p:cNvPicPr/>
          <p:nvPr/>
        </p:nvPicPr>
        <p:blipFill>
          <a:blip r:embed="rId1"/>
          <a:stretch/>
        </p:blipFill>
        <p:spPr>
          <a:xfrm>
            <a:off x="5429160" y="2714760"/>
            <a:ext cx="178596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57200" y="160020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s university is the oldest in Brita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Управляющая кнопка: домой 3">
            <a:hlinkClick r:id="" action="ppaction://hlinkshowjump?jump=firstslide"/>
          </p:cNvPr>
          <p:cNvSpPr/>
          <p:nvPr/>
        </p:nvSpPr>
        <p:spPr>
          <a:xfrm>
            <a:off x="3000240" y="5857920"/>
            <a:ext cx="2786040" cy="785880"/>
          </a:xfrm>
          <a:custGeom>
            <a:avLst/>
            <a:gdLst>
              <a:gd name="textAreaLeft" fmla="*/ 50760 w 2786040"/>
              <a:gd name="textAreaRight" fmla="*/ 2735280 w 278604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76549" h="21600">
                <a:moveTo>
                  <a:pt x="0" y="0"/>
                </a:moveTo>
                <a:lnTo>
                  <a:pt x="76549" y="0"/>
                </a:lnTo>
                <a:lnTo>
                  <a:pt x="76549" y="21600"/>
                </a:lnTo>
                <a:lnTo>
                  <a:pt x="0" y="21600"/>
                </a:lnTo>
                <a:close/>
              </a:path>
              <a:path fill="lightenLess" w="76549" h="21600">
                <a:moveTo>
                  <a:pt x="0" y="0"/>
                </a:moveTo>
                <a:lnTo>
                  <a:pt x="76549" y="0"/>
                </a:lnTo>
                <a:lnTo>
                  <a:pt x="75149" y="1400"/>
                </a:lnTo>
                <a:lnTo>
                  <a:pt x="1400" y="1400"/>
                </a:lnTo>
                <a:close/>
              </a:path>
              <a:path fill="darken" w="76549" h="21600">
                <a:moveTo>
                  <a:pt x="76549" y="0"/>
                </a:moveTo>
                <a:lnTo>
                  <a:pt x="76549" y="21600"/>
                </a:lnTo>
                <a:lnTo>
                  <a:pt x="75149" y="20200"/>
                </a:lnTo>
                <a:lnTo>
                  <a:pt x="75149" y="1400"/>
                </a:lnTo>
                <a:close/>
              </a:path>
              <a:path fill="darkenLess" w="76549" h="21600">
                <a:moveTo>
                  <a:pt x="76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49" y="20200"/>
                </a:lnTo>
                <a:close/>
              </a:path>
              <a:path fill="lighten" w="76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49" h="21600">
                <a:moveTo>
                  <a:pt x="38275" y="3837"/>
                </a:moveTo>
                <a:lnTo>
                  <a:pt x="40851" y="6448"/>
                </a:ln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lnTo>
                  <a:pt x="45238" y="10800"/>
                </a:lnTo>
                <a:lnTo>
                  <a:pt x="43584" y="10800"/>
                </a:lnTo>
                <a:lnTo>
                  <a:pt x="43584" y="17989"/>
                </a:lnTo>
                <a:lnTo>
                  <a:pt x="32965" y="17989"/>
                </a:lnTo>
                <a:lnTo>
                  <a:pt x="32965" y="10800"/>
                </a:lnTo>
                <a:lnTo>
                  <a:pt x="31312" y="10800"/>
                </a:lnTo>
                <a:close/>
              </a:path>
              <a:path fill="darkenLess" w="76549" h="21600">
                <a:moveTo>
                  <a:pt x="40851" y="6448"/>
                </a:move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close/>
              </a:path>
              <a:path fill="darkenLess" w="76549" h="21600">
                <a:moveTo>
                  <a:pt x="37352" y="14299"/>
                </a:moveTo>
                <a:lnTo>
                  <a:pt x="39197" y="14299"/>
                </a:lnTo>
                <a:lnTo>
                  <a:pt x="39197" y="17989"/>
                </a:lnTo>
                <a:lnTo>
                  <a:pt x="43584" y="17989"/>
                </a:lnTo>
                <a:lnTo>
                  <a:pt x="43584" y="10800"/>
                </a:lnTo>
                <a:lnTo>
                  <a:pt x="32965" y="10800"/>
                </a:lnTo>
                <a:lnTo>
                  <a:pt x="32965" y="17989"/>
                </a:lnTo>
                <a:lnTo>
                  <a:pt x="37352" y="17989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ачал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ience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Box 5"/>
          <p:cNvSpPr/>
          <p:nvPr/>
        </p:nvSpPr>
        <p:spPr>
          <a:xfrm>
            <a:off x="1214280" y="2643120"/>
            <a:ext cx="49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Cambridg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6"/>
          <p:cNvSpPr/>
          <p:nvPr/>
        </p:nvSpPr>
        <p:spPr>
          <a:xfrm>
            <a:off x="1285920" y="328608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Oxford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7"/>
          <p:cNvSpPr/>
          <p:nvPr/>
        </p:nvSpPr>
        <p:spPr>
          <a:xfrm>
            <a:off x="1285920" y="392904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London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8"/>
          <p:cNvSpPr/>
          <p:nvPr/>
        </p:nvSpPr>
        <p:spPr>
          <a:xfrm>
            <a:off x="1285920" y="450072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Edinburgh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r Isaac Newton studied in this univers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Управляющая кнопка: домой 7">
            <a:hlinkClick r:id="" action="ppaction://hlinkshowjump?jump=firstslide"/>
          </p:cNvPr>
          <p:cNvSpPr/>
          <p:nvPr/>
        </p:nvSpPr>
        <p:spPr>
          <a:xfrm>
            <a:off x="3000240" y="5857920"/>
            <a:ext cx="2786040" cy="785880"/>
          </a:xfrm>
          <a:custGeom>
            <a:avLst/>
            <a:gdLst>
              <a:gd name="textAreaLeft" fmla="*/ 50760 w 2786040"/>
              <a:gd name="textAreaRight" fmla="*/ 2735280 w 278604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76549" h="21600">
                <a:moveTo>
                  <a:pt x="0" y="0"/>
                </a:moveTo>
                <a:lnTo>
                  <a:pt x="76549" y="0"/>
                </a:lnTo>
                <a:lnTo>
                  <a:pt x="76549" y="21600"/>
                </a:lnTo>
                <a:lnTo>
                  <a:pt x="0" y="21600"/>
                </a:lnTo>
                <a:close/>
              </a:path>
              <a:path fill="lightenLess" w="76549" h="21600">
                <a:moveTo>
                  <a:pt x="0" y="0"/>
                </a:moveTo>
                <a:lnTo>
                  <a:pt x="76549" y="0"/>
                </a:lnTo>
                <a:lnTo>
                  <a:pt x="75149" y="1400"/>
                </a:lnTo>
                <a:lnTo>
                  <a:pt x="1400" y="1400"/>
                </a:lnTo>
                <a:close/>
              </a:path>
              <a:path fill="darken" w="76549" h="21600">
                <a:moveTo>
                  <a:pt x="76549" y="0"/>
                </a:moveTo>
                <a:lnTo>
                  <a:pt x="76549" y="21600"/>
                </a:lnTo>
                <a:lnTo>
                  <a:pt x="75149" y="20200"/>
                </a:lnTo>
                <a:lnTo>
                  <a:pt x="75149" y="1400"/>
                </a:lnTo>
                <a:close/>
              </a:path>
              <a:path fill="darkenLess" w="76549" h="21600">
                <a:moveTo>
                  <a:pt x="76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49" y="20200"/>
                </a:lnTo>
                <a:close/>
              </a:path>
              <a:path fill="lighten" w="76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49" h="21600">
                <a:moveTo>
                  <a:pt x="38275" y="3837"/>
                </a:moveTo>
                <a:lnTo>
                  <a:pt x="40851" y="6448"/>
                </a:ln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lnTo>
                  <a:pt x="45238" y="10800"/>
                </a:lnTo>
                <a:lnTo>
                  <a:pt x="43584" y="10800"/>
                </a:lnTo>
                <a:lnTo>
                  <a:pt x="43584" y="17989"/>
                </a:lnTo>
                <a:lnTo>
                  <a:pt x="32965" y="17989"/>
                </a:lnTo>
                <a:lnTo>
                  <a:pt x="32965" y="10800"/>
                </a:lnTo>
                <a:lnTo>
                  <a:pt x="31312" y="10800"/>
                </a:lnTo>
                <a:close/>
              </a:path>
              <a:path fill="darkenLess" w="76549" h="21600">
                <a:moveTo>
                  <a:pt x="40851" y="6448"/>
                </a:move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close/>
              </a:path>
              <a:path fill="darkenLess" w="76549" h="21600">
                <a:moveTo>
                  <a:pt x="37352" y="14299"/>
                </a:moveTo>
                <a:lnTo>
                  <a:pt x="39197" y="14299"/>
                </a:lnTo>
                <a:lnTo>
                  <a:pt x="39197" y="17989"/>
                </a:lnTo>
                <a:lnTo>
                  <a:pt x="43584" y="17989"/>
                </a:lnTo>
                <a:lnTo>
                  <a:pt x="43584" y="10800"/>
                </a:lnTo>
                <a:lnTo>
                  <a:pt x="32965" y="10800"/>
                </a:lnTo>
                <a:lnTo>
                  <a:pt x="32965" y="17989"/>
                </a:lnTo>
                <a:lnTo>
                  <a:pt x="37352" y="17989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ачал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ience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9"/>
          <p:cNvSpPr/>
          <p:nvPr/>
        </p:nvSpPr>
        <p:spPr>
          <a:xfrm>
            <a:off x="1214280" y="2643120"/>
            <a:ext cx="49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Cambridg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0"/>
          <p:cNvSpPr/>
          <p:nvPr/>
        </p:nvSpPr>
        <p:spPr>
          <a:xfrm>
            <a:off x="1285920" y="328608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Oxford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11"/>
          <p:cNvSpPr/>
          <p:nvPr/>
        </p:nvSpPr>
        <p:spPr>
          <a:xfrm>
            <a:off x="1285920" y="392904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London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2"/>
          <p:cNvSpPr/>
          <p:nvPr/>
        </p:nvSpPr>
        <p:spPr>
          <a:xfrm>
            <a:off x="1285920" y="450072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Edinburgh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6002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ter  ______________ since 5 o’clo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Заголовок 1"/>
          <p:cNvSpPr/>
          <p:nvPr/>
        </p:nvSpPr>
        <p:spPr>
          <a:xfrm>
            <a:off x="609480" y="35712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mmar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714240" y="2428920"/>
            <a:ext cx="54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) is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1500120" y="300024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) 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2214720" y="357192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) have 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2857680" y="421488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) have been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Управляющая кнопка: домой 9">
            <a:hlinkClick r:id="" action="ppaction://hlinkshowjump?jump=firstslide"/>
          </p:cNvPr>
          <p:cNvSpPr/>
          <p:nvPr/>
        </p:nvSpPr>
        <p:spPr>
          <a:xfrm>
            <a:off x="3071880" y="5857920"/>
            <a:ext cx="2786040" cy="785880"/>
          </a:xfrm>
          <a:custGeom>
            <a:avLst/>
            <a:gdLst>
              <a:gd name="textAreaLeft" fmla="*/ 50760 w 2786040"/>
              <a:gd name="textAreaRight" fmla="*/ 2735280 w 278604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76549" h="21600">
                <a:moveTo>
                  <a:pt x="0" y="0"/>
                </a:moveTo>
                <a:lnTo>
                  <a:pt x="76549" y="0"/>
                </a:lnTo>
                <a:lnTo>
                  <a:pt x="76549" y="21600"/>
                </a:lnTo>
                <a:lnTo>
                  <a:pt x="0" y="21600"/>
                </a:lnTo>
                <a:close/>
              </a:path>
              <a:path fill="lightenLess" w="76549" h="21600">
                <a:moveTo>
                  <a:pt x="0" y="0"/>
                </a:moveTo>
                <a:lnTo>
                  <a:pt x="76549" y="0"/>
                </a:lnTo>
                <a:lnTo>
                  <a:pt x="75149" y="1400"/>
                </a:lnTo>
                <a:lnTo>
                  <a:pt x="1400" y="1400"/>
                </a:lnTo>
                <a:close/>
              </a:path>
              <a:path fill="darken" w="76549" h="21600">
                <a:moveTo>
                  <a:pt x="76549" y="0"/>
                </a:moveTo>
                <a:lnTo>
                  <a:pt x="76549" y="21600"/>
                </a:lnTo>
                <a:lnTo>
                  <a:pt x="75149" y="20200"/>
                </a:lnTo>
                <a:lnTo>
                  <a:pt x="75149" y="1400"/>
                </a:lnTo>
                <a:close/>
              </a:path>
              <a:path fill="darkenLess" w="76549" h="21600">
                <a:moveTo>
                  <a:pt x="76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49" y="20200"/>
                </a:lnTo>
                <a:close/>
              </a:path>
              <a:path fill="lighten" w="76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49" h="21600">
                <a:moveTo>
                  <a:pt x="38275" y="3837"/>
                </a:moveTo>
                <a:lnTo>
                  <a:pt x="40851" y="6448"/>
                </a:ln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lnTo>
                  <a:pt x="45238" y="10800"/>
                </a:lnTo>
                <a:lnTo>
                  <a:pt x="43584" y="10800"/>
                </a:lnTo>
                <a:lnTo>
                  <a:pt x="43584" y="17989"/>
                </a:lnTo>
                <a:lnTo>
                  <a:pt x="32965" y="17989"/>
                </a:lnTo>
                <a:lnTo>
                  <a:pt x="32965" y="10800"/>
                </a:lnTo>
                <a:lnTo>
                  <a:pt x="31312" y="10800"/>
                </a:lnTo>
                <a:close/>
              </a:path>
              <a:path fill="darkenLess" w="76549" h="21600">
                <a:moveTo>
                  <a:pt x="40851" y="6448"/>
                </a:move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close/>
              </a:path>
              <a:path fill="darkenLess" w="76549" h="21600">
                <a:moveTo>
                  <a:pt x="37352" y="14299"/>
                </a:moveTo>
                <a:lnTo>
                  <a:pt x="39197" y="14299"/>
                </a:lnTo>
                <a:lnTo>
                  <a:pt x="39197" y="17989"/>
                </a:lnTo>
                <a:lnTo>
                  <a:pt x="43584" y="17989"/>
                </a:lnTo>
                <a:lnTo>
                  <a:pt x="43584" y="10800"/>
                </a:lnTo>
                <a:lnTo>
                  <a:pt x="32965" y="10800"/>
                </a:lnTo>
                <a:lnTo>
                  <a:pt x="32965" y="17989"/>
                </a:lnTo>
                <a:lnTo>
                  <a:pt x="37352" y="17989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ачал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mmar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w school ___________ in our town n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2643120" y="385776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) is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2214720" y="3214800"/>
            <a:ext cx="56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) is b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1438200" y="272412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) is being b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3286080" y="450072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) bui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Управляющая кнопка: домой 9">
            <a:hlinkClick r:id="" action="ppaction://hlinkshowjump?jump=firstslide"/>
          </p:cNvPr>
          <p:cNvSpPr/>
          <p:nvPr/>
        </p:nvSpPr>
        <p:spPr>
          <a:xfrm>
            <a:off x="3071880" y="5857920"/>
            <a:ext cx="2786040" cy="785880"/>
          </a:xfrm>
          <a:custGeom>
            <a:avLst/>
            <a:gdLst>
              <a:gd name="textAreaLeft" fmla="*/ 50760 w 2786040"/>
              <a:gd name="textAreaRight" fmla="*/ 2735280 w 278604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76549" h="21600">
                <a:moveTo>
                  <a:pt x="0" y="0"/>
                </a:moveTo>
                <a:lnTo>
                  <a:pt x="76549" y="0"/>
                </a:lnTo>
                <a:lnTo>
                  <a:pt x="76549" y="21600"/>
                </a:lnTo>
                <a:lnTo>
                  <a:pt x="0" y="21600"/>
                </a:lnTo>
                <a:close/>
              </a:path>
              <a:path fill="lightenLess" w="76549" h="21600">
                <a:moveTo>
                  <a:pt x="0" y="0"/>
                </a:moveTo>
                <a:lnTo>
                  <a:pt x="76549" y="0"/>
                </a:lnTo>
                <a:lnTo>
                  <a:pt x="75149" y="1400"/>
                </a:lnTo>
                <a:lnTo>
                  <a:pt x="1400" y="1400"/>
                </a:lnTo>
                <a:close/>
              </a:path>
              <a:path fill="darken" w="76549" h="21600">
                <a:moveTo>
                  <a:pt x="76549" y="0"/>
                </a:moveTo>
                <a:lnTo>
                  <a:pt x="76549" y="21600"/>
                </a:lnTo>
                <a:lnTo>
                  <a:pt x="75149" y="20200"/>
                </a:lnTo>
                <a:lnTo>
                  <a:pt x="75149" y="1400"/>
                </a:lnTo>
                <a:close/>
              </a:path>
              <a:path fill="darkenLess" w="76549" h="21600">
                <a:moveTo>
                  <a:pt x="76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49" y="20200"/>
                </a:lnTo>
                <a:close/>
              </a:path>
              <a:path fill="lighten" w="76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49" h="21600">
                <a:moveTo>
                  <a:pt x="38275" y="3837"/>
                </a:moveTo>
                <a:lnTo>
                  <a:pt x="40851" y="6448"/>
                </a:ln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lnTo>
                  <a:pt x="45238" y="10800"/>
                </a:lnTo>
                <a:lnTo>
                  <a:pt x="43584" y="10800"/>
                </a:lnTo>
                <a:lnTo>
                  <a:pt x="43584" y="17989"/>
                </a:lnTo>
                <a:lnTo>
                  <a:pt x="32965" y="17989"/>
                </a:lnTo>
                <a:lnTo>
                  <a:pt x="32965" y="10800"/>
                </a:lnTo>
                <a:lnTo>
                  <a:pt x="31312" y="10800"/>
                </a:lnTo>
                <a:close/>
              </a:path>
              <a:path fill="darkenLess" w="76549" h="21600">
                <a:moveTo>
                  <a:pt x="40851" y="6448"/>
                </a:move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close/>
              </a:path>
              <a:path fill="darkenLess" w="76549" h="21600">
                <a:moveTo>
                  <a:pt x="37352" y="14299"/>
                </a:moveTo>
                <a:lnTo>
                  <a:pt x="39197" y="14299"/>
                </a:lnTo>
                <a:lnTo>
                  <a:pt x="39197" y="17989"/>
                </a:lnTo>
                <a:lnTo>
                  <a:pt x="43584" y="17989"/>
                </a:lnTo>
                <a:lnTo>
                  <a:pt x="43584" y="10800"/>
                </a:lnTo>
                <a:lnTo>
                  <a:pt x="32965" y="10800"/>
                </a:lnTo>
                <a:lnTo>
                  <a:pt x="32965" y="17989"/>
                </a:lnTo>
                <a:lnTo>
                  <a:pt x="37352" y="17989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ачал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mmar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terday at 6 o’clock I _______________ a boo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Управляющая кнопка: домой 3">
            <a:hlinkClick r:id="" action="ppaction://hlinkshowjump?jump=firstslide"/>
          </p:cNvPr>
          <p:cNvSpPr/>
          <p:nvPr/>
        </p:nvSpPr>
        <p:spPr>
          <a:xfrm>
            <a:off x="3000240" y="5857920"/>
            <a:ext cx="2786040" cy="785880"/>
          </a:xfrm>
          <a:custGeom>
            <a:avLst/>
            <a:gdLst>
              <a:gd name="textAreaLeft" fmla="*/ 50760 w 2786040"/>
              <a:gd name="textAreaRight" fmla="*/ 2735280 w 278604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76549" h="21600">
                <a:moveTo>
                  <a:pt x="0" y="0"/>
                </a:moveTo>
                <a:lnTo>
                  <a:pt x="76549" y="0"/>
                </a:lnTo>
                <a:lnTo>
                  <a:pt x="76549" y="21600"/>
                </a:lnTo>
                <a:lnTo>
                  <a:pt x="0" y="21600"/>
                </a:lnTo>
                <a:close/>
              </a:path>
              <a:path fill="lightenLess" w="76549" h="21600">
                <a:moveTo>
                  <a:pt x="0" y="0"/>
                </a:moveTo>
                <a:lnTo>
                  <a:pt x="76549" y="0"/>
                </a:lnTo>
                <a:lnTo>
                  <a:pt x="75149" y="1400"/>
                </a:lnTo>
                <a:lnTo>
                  <a:pt x="1400" y="1400"/>
                </a:lnTo>
                <a:close/>
              </a:path>
              <a:path fill="darken" w="76549" h="21600">
                <a:moveTo>
                  <a:pt x="76549" y="0"/>
                </a:moveTo>
                <a:lnTo>
                  <a:pt x="76549" y="21600"/>
                </a:lnTo>
                <a:lnTo>
                  <a:pt x="75149" y="20200"/>
                </a:lnTo>
                <a:lnTo>
                  <a:pt x="75149" y="1400"/>
                </a:lnTo>
                <a:close/>
              </a:path>
              <a:path fill="darkenLess" w="76549" h="21600">
                <a:moveTo>
                  <a:pt x="76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49" y="20200"/>
                </a:lnTo>
                <a:close/>
              </a:path>
              <a:path fill="lighten" w="76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49" h="21600">
                <a:moveTo>
                  <a:pt x="38275" y="3837"/>
                </a:moveTo>
                <a:lnTo>
                  <a:pt x="40851" y="6448"/>
                </a:ln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lnTo>
                  <a:pt x="45238" y="10800"/>
                </a:lnTo>
                <a:lnTo>
                  <a:pt x="43584" y="10800"/>
                </a:lnTo>
                <a:lnTo>
                  <a:pt x="43584" y="17989"/>
                </a:lnTo>
                <a:lnTo>
                  <a:pt x="32965" y="17989"/>
                </a:lnTo>
                <a:lnTo>
                  <a:pt x="32965" y="10800"/>
                </a:lnTo>
                <a:lnTo>
                  <a:pt x="31312" y="10800"/>
                </a:lnTo>
                <a:close/>
              </a:path>
              <a:path fill="darkenLess" w="76549" h="21600">
                <a:moveTo>
                  <a:pt x="40851" y="6448"/>
                </a:move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close/>
              </a:path>
              <a:path fill="darkenLess" w="76549" h="21600">
                <a:moveTo>
                  <a:pt x="37352" y="14299"/>
                </a:moveTo>
                <a:lnTo>
                  <a:pt x="39197" y="14299"/>
                </a:lnTo>
                <a:lnTo>
                  <a:pt x="39197" y="17989"/>
                </a:lnTo>
                <a:lnTo>
                  <a:pt x="43584" y="17989"/>
                </a:lnTo>
                <a:lnTo>
                  <a:pt x="43584" y="10800"/>
                </a:lnTo>
                <a:lnTo>
                  <a:pt x="32965" y="10800"/>
                </a:lnTo>
                <a:lnTo>
                  <a:pt x="32965" y="17989"/>
                </a:lnTo>
                <a:lnTo>
                  <a:pt x="37352" y="17989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ачал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2214720" y="3214800"/>
            <a:ext cx="56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)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2428920" y="3714840"/>
            <a:ext cx="56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) was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3000240" y="428616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) have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3500280" y="485784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) have been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mmar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99840"/>
            <a:ext cx="82296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!  My brother _____________ to ride a bik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1714680" y="2786040"/>
            <a:ext cx="56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lea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2071800" y="3429000"/>
            <a:ext cx="56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is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2643120" y="392904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has been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3286080" y="442908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lear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Управляющая кнопка: домой 7">
            <a:hlinkClick r:id="" action="ppaction://hlinkshowjump?jump=firstslide"/>
          </p:cNvPr>
          <p:cNvSpPr/>
          <p:nvPr/>
        </p:nvSpPr>
        <p:spPr>
          <a:xfrm>
            <a:off x="3000240" y="5857920"/>
            <a:ext cx="2786040" cy="785880"/>
          </a:xfrm>
          <a:custGeom>
            <a:avLst/>
            <a:gdLst>
              <a:gd name="textAreaLeft" fmla="*/ 50760 w 2786040"/>
              <a:gd name="textAreaRight" fmla="*/ 2735280 w 278604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76549" h="21600">
                <a:moveTo>
                  <a:pt x="0" y="0"/>
                </a:moveTo>
                <a:lnTo>
                  <a:pt x="76549" y="0"/>
                </a:lnTo>
                <a:lnTo>
                  <a:pt x="76549" y="21600"/>
                </a:lnTo>
                <a:lnTo>
                  <a:pt x="0" y="21600"/>
                </a:lnTo>
                <a:close/>
              </a:path>
              <a:path fill="lightenLess" w="76549" h="21600">
                <a:moveTo>
                  <a:pt x="0" y="0"/>
                </a:moveTo>
                <a:lnTo>
                  <a:pt x="76549" y="0"/>
                </a:lnTo>
                <a:lnTo>
                  <a:pt x="75149" y="1400"/>
                </a:lnTo>
                <a:lnTo>
                  <a:pt x="1400" y="1400"/>
                </a:lnTo>
                <a:close/>
              </a:path>
              <a:path fill="darken" w="76549" h="21600">
                <a:moveTo>
                  <a:pt x="76549" y="0"/>
                </a:moveTo>
                <a:lnTo>
                  <a:pt x="76549" y="21600"/>
                </a:lnTo>
                <a:lnTo>
                  <a:pt x="75149" y="20200"/>
                </a:lnTo>
                <a:lnTo>
                  <a:pt x="75149" y="1400"/>
                </a:lnTo>
                <a:close/>
              </a:path>
              <a:path fill="darkenLess" w="76549" h="21600">
                <a:moveTo>
                  <a:pt x="76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49" y="20200"/>
                </a:lnTo>
                <a:close/>
              </a:path>
              <a:path fill="lighten" w="76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49" h="21600">
                <a:moveTo>
                  <a:pt x="38275" y="3837"/>
                </a:moveTo>
                <a:lnTo>
                  <a:pt x="40851" y="6448"/>
                </a:ln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lnTo>
                  <a:pt x="45238" y="10800"/>
                </a:lnTo>
                <a:lnTo>
                  <a:pt x="43584" y="10800"/>
                </a:lnTo>
                <a:lnTo>
                  <a:pt x="43584" y="17989"/>
                </a:lnTo>
                <a:lnTo>
                  <a:pt x="32965" y="17989"/>
                </a:lnTo>
                <a:lnTo>
                  <a:pt x="32965" y="10800"/>
                </a:lnTo>
                <a:lnTo>
                  <a:pt x="31312" y="10800"/>
                </a:lnTo>
                <a:close/>
              </a:path>
              <a:path fill="darkenLess" w="76549" h="21600">
                <a:moveTo>
                  <a:pt x="40851" y="6448"/>
                </a:move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close/>
              </a:path>
              <a:path fill="darkenLess" w="76549" h="21600">
                <a:moveTo>
                  <a:pt x="37352" y="14299"/>
                </a:moveTo>
                <a:lnTo>
                  <a:pt x="39197" y="14299"/>
                </a:lnTo>
                <a:lnTo>
                  <a:pt x="39197" y="17989"/>
                </a:lnTo>
                <a:lnTo>
                  <a:pt x="43584" y="17989"/>
                </a:lnTo>
                <a:lnTo>
                  <a:pt x="43584" y="10800"/>
                </a:lnTo>
                <a:lnTo>
                  <a:pt x="32965" y="10800"/>
                </a:lnTo>
                <a:lnTo>
                  <a:pt x="32965" y="17989"/>
                </a:lnTo>
                <a:lnTo>
                  <a:pt x="37352" y="17989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ачал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mmar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57120" y="16430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e … our flat every Saturda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2071800" y="4000680"/>
            <a:ext cx="56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are clea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1357200" y="292896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have clea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1857240" y="342900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were cl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2857680" y="4572000"/>
            <a:ext cx="56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Управляющая кнопка: домой 7">
            <a:hlinkClick r:id="" action="ppaction://hlinkshowjump?jump=firstslide"/>
          </p:cNvPr>
          <p:cNvSpPr/>
          <p:nvPr/>
        </p:nvSpPr>
        <p:spPr>
          <a:xfrm>
            <a:off x="3000240" y="5857920"/>
            <a:ext cx="2786040" cy="785880"/>
          </a:xfrm>
          <a:custGeom>
            <a:avLst/>
            <a:gdLst>
              <a:gd name="textAreaLeft" fmla="*/ 50760 w 2786040"/>
              <a:gd name="textAreaRight" fmla="*/ 2735280 w 278604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76549" h="21600">
                <a:moveTo>
                  <a:pt x="0" y="0"/>
                </a:moveTo>
                <a:lnTo>
                  <a:pt x="76549" y="0"/>
                </a:lnTo>
                <a:lnTo>
                  <a:pt x="76549" y="21600"/>
                </a:lnTo>
                <a:lnTo>
                  <a:pt x="0" y="21600"/>
                </a:lnTo>
                <a:close/>
              </a:path>
              <a:path fill="lightenLess" w="76549" h="21600">
                <a:moveTo>
                  <a:pt x="0" y="0"/>
                </a:moveTo>
                <a:lnTo>
                  <a:pt x="76549" y="0"/>
                </a:lnTo>
                <a:lnTo>
                  <a:pt x="75149" y="1400"/>
                </a:lnTo>
                <a:lnTo>
                  <a:pt x="1400" y="1400"/>
                </a:lnTo>
                <a:close/>
              </a:path>
              <a:path fill="darken" w="76549" h="21600">
                <a:moveTo>
                  <a:pt x="76549" y="0"/>
                </a:moveTo>
                <a:lnTo>
                  <a:pt x="76549" y="21600"/>
                </a:lnTo>
                <a:lnTo>
                  <a:pt x="75149" y="20200"/>
                </a:lnTo>
                <a:lnTo>
                  <a:pt x="75149" y="1400"/>
                </a:lnTo>
                <a:close/>
              </a:path>
              <a:path fill="darkenLess" w="76549" h="21600">
                <a:moveTo>
                  <a:pt x="76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49" y="20200"/>
                </a:lnTo>
                <a:close/>
              </a:path>
              <a:path fill="lighten" w="76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49" h="21600">
                <a:moveTo>
                  <a:pt x="38275" y="3837"/>
                </a:moveTo>
                <a:lnTo>
                  <a:pt x="40851" y="6448"/>
                </a:ln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lnTo>
                  <a:pt x="45238" y="10800"/>
                </a:lnTo>
                <a:lnTo>
                  <a:pt x="43584" y="10800"/>
                </a:lnTo>
                <a:lnTo>
                  <a:pt x="43584" y="17989"/>
                </a:lnTo>
                <a:lnTo>
                  <a:pt x="32965" y="17989"/>
                </a:lnTo>
                <a:lnTo>
                  <a:pt x="32965" y="10800"/>
                </a:lnTo>
                <a:lnTo>
                  <a:pt x="31312" y="10800"/>
                </a:lnTo>
                <a:close/>
              </a:path>
              <a:path fill="darkenLess" w="76549" h="21600">
                <a:moveTo>
                  <a:pt x="40851" y="6448"/>
                </a:move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close/>
              </a:path>
              <a:path fill="darkenLess" w="76549" h="21600">
                <a:moveTo>
                  <a:pt x="37352" y="14299"/>
                </a:moveTo>
                <a:lnTo>
                  <a:pt x="39197" y="14299"/>
                </a:lnTo>
                <a:lnTo>
                  <a:pt x="39197" y="17989"/>
                </a:lnTo>
                <a:lnTo>
                  <a:pt x="43584" y="17989"/>
                </a:lnTo>
                <a:lnTo>
                  <a:pt x="43584" y="10800"/>
                </a:lnTo>
                <a:lnTo>
                  <a:pt x="32965" y="10800"/>
                </a:lnTo>
                <a:lnTo>
                  <a:pt x="32965" y="17989"/>
                </a:lnTo>
                <a:lnTo>
                  <a:pt x="37352" y="17989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ачал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ulary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my parents are away, I look ________ my little sist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Управляющая кнопка: домой 3">
            <a:hlinkClick r:id="" action="ppaction://hlinkshowjump?jump=firstslide"/>
          </p:cNvPr>
          <p:cNvSpPr/>
          <p:nvPr/>
        </p:nvSpPr>
        <p:spPr>
          <a:xfrm>
            <a:off x="3071880" y="5857920"/>
            <a:ext cx="2786040" cy="785880"/>
          </a:xfrm>
          <a:custGeom>
            <a:avLst/>
            <a:gdLst>
              <a:gd name="textAreaLeft" fmla="*/ 50760 w 2786040"/>
              <a:gd name="textAreaRight" fmla="*/ 2735280 w 278604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76549" h="21600">
                <a:moveTo>
                  <a:pt x="0" y="0"/>
                </a:moveTo>
                <a:lnTo>
                  <a:pt x="76549" y="0"/>
                </a:lnTo>
                <a:lnTo>
                  <a:pt x="76549" y="21600"/>
                </a:lnTo>
                <a:lnTo>
                  <a:pt x="0" y="21600"/>
                </a:lnTo>
                <a:close/>
              </a:path>
              <a:path fill="lightenLess" w="76549" h="21600">
                <a:moveTo>
                  <a:pt x="0" y="0"/>
                </a:moveTo>
                <a:lnTo>
                  <a:pt x="76549" y="0"/>
                </a:lnTo>
                <a:lnTo>
                  <a:pt x="75149" y="1400"/>
                </a:lnTo>
                <a:lnTo>
                  <a:pt x="1400" y="1400"/>
                </a:lnTo>
                <a:close/>
              </a:path>
              <a:path fill="darken" w="76549" h="21600">
                <a:moveTo>
                  <a:pt x="76549" y="0"/>
                </a:moveTo>
                <a:lnTo>
                  <a:pt x="76549" y="21600"/>
                </a:lnTo>
                <a:lnTo>
                  <a:pt x="75149" y="20200"/>
                </a:lnTo>
                <a:lnTo>
                  <a:pt x="75149" y="1400"/>
                </a:lnTo>
                <a:close/>
              </a:path>
              <a:path fill="darkenLess" w="76549" h="21600">
                <a:moveTo>
                  <a:pt x="76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49" y="20200"/>
                </a:lnTo>
                <a:close/>
              </a:path>
              <a:path fill="lighten" w="76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49" h="21600">
                <a:moveTo>
                  <a:pt x="38275" y="3837"/>
                </a:moveTo>
                <a:lnTo>
                  <a:pt x="40851" y="6448"/>
                </a:ln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lnTo>
                  <a:pt x="45238" y="10800"/>
                </a:lnTo>
                <a:lnTo>
                  <a:pt x="43584" y="10800"/>
                </a:lnTo>
                <a:lnTo>
                  <a:pt x="43584" y="17989"/>
                </a:lnTo>
                <a:lnTo>
                  <a:pt x="32965" y="17989"/>
                </a:lnTo>
                <a:lnTo>
                  <a:pt x="32965" y="10800"/>
                </a:lnTo>
                <a:lnTo>
                  <a:pt x="31312" y="10800"/>
                </a:lnTo>
                <a:close/>
              </a:path>
              <a:path fill="darkenLess" w="76549" h="21600">
                <a:moveTo>
                  <a:pt x="40851" y="6448"/>
                </a:moveTo>
                <a:lnTo>
                  <a:pt x="40851" y="4707"/>
                </a:lnTo>
                <a:lnTo>
                  <a:pt x="42627" y="4707"/>
                </a:lnTo>
                <a:lnTo>
                  <a:pt x="42627" y="8224"/>
                </a:lnTo>
                <a:close/>
              </a:path>
              <a:path fill="darkenLess" w="76549" h="21600">
                <a:moveTo>
                  <a:pt x="37352" y="14299"/>
                </a:moveTo>
                <a:lnTo>
                  <a:pt x="39197" y="14299"/>
                </a:lnTo>
                <a:lnTo>
                  <a:pt x="39197" y="17989"/>
                </a:lnTo>
                <a:lnTo>
                  <a:pt x="43584" y="17989"/>
                </a:lnTo>
                <a:lnTo>
                  <a:pt x="43584" y="10800"/>
                </a:lnTo>
                <a:lnTo>
                  <a:pt x="32965" y="10800"/>
                </a:lnTo>
                <a:lnTo>
                  <a:pt x="32965" y="17989"/>
                </a:lnTo>
                <a:lnTo>
                  <a:pt x="37352" y="17989"/>
                </a:lnTo>
                <a:close/>
              </a:path>
            </a:pathLst>
          </a:custGeom>
          <a:solidFill>
            <a:srgbClr val="0033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 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928800" y="257184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1071720" y="3214800"/>
            <a:ext cx="24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1285920" y="385776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500120" y="442908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16:23:39Z</dcterms:created>
  <dc:creator>Admin</dc:creator>
  <dc:description/>
  <dc:language>en-US</dc:language>
  <cp:lastModifiedBy>Admin</cp:lastModifiedBy>
  <dcterms:modified xsi:type="dcterms:W3CDTF">2011-03-17T17:21:12Z</dcterms:modified>
  <cp:revision>91</cp:revision>
  <dc:subject/>
  <dc:title>Слайд 1</dc:title>
</cp:coreProperties>
</file>